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0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lstStyle>
            <a:lvl1pPr marL="216000" indent="0" algn="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73320" y="714240"/>
            <a:ext cx="4773600" cy="357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Click to move the slide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4880" y="4533480"/>
            <a:ext cx="5365440" cy="43722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lstStyle>
            <a:lvl1pPr marL="216000" indent="0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lstStyle>
            <a:lvl1pPr marL="216000" indent="0" algn="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646E0B80-2D94-401C-9F44-1F19DB308F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E6566598-8F34-4910-8B6F-160B184994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7B035258-0C35-42FC-987B-8488A98CFB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71C1182C-C2E4-463A-A6C0-E3144A82EA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E4B2F607-75C9-4096-98B8-275DDC235C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C455965F-A3FF-4603-B856-70AC37673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117C767C-A588-4C09-B41D-D07CD6A29B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36BB8E95-1705-4192-8773-8AAB99C286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AFFD48E9-0A4E-4982-9E06-E1517CF132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4835E801-2671-4942-BB5A-DEAE8D14E4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05444F36-FCD3-4504-9583-960DFC359A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EDCBBD5F-D54B-4C61-AAE5-854724D43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487BD9E4-9C38-41F5-BBF4-8CABB40DE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7F06D76F-17D7-4C9E-BC99-87FF72BCDE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08A04355-BD7B-481B-A744-1764B9C92E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3BDAF168-2516-4FE6-A90F-C69AF98A51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B61346D9-A3CD-4C08-ABD6-43691E2405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BA429454-FB5D-4264-B735-31191AABEE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75A6BBEB-2206-4F2D-8E7A-9CA026C2F8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77A4288B-7003-401C-A4F4-35D79145E7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5E77A353-3EFF-428F-A4E9-7885EF375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79BF66EB-F365-438F-B395-1C7F321C7A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DFB29040-8835-4BFE-8ABE-62740706D9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8C583290-DF32-4843-9CC4-E36693DF3E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D18B9C31-778F-41AE-B1D5-15D26D3C3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14504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44A06863-D37C-4CCE-8942-6231E42060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9146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14504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E5BC-3964-4FE1-9772-15E0D7537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44400" y="891720"/>
            <a:ext cx="6537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44400" y="3399120"/>
            <a:ext cx="6537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07926-D1EB-4A94-A6E9-2D6F10C5B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44400" y="891720"/>
            <a:ext cx="318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4200" y="891720"/>
            <a:ext cx="318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44400" y="3399120"/>
            <a:ext cx="318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4200" y="3399120"/>
            <a:ext cx="318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D1C9-F5B8-49A5-8BE4-08E5D1817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44400" y="891720"/>
            <a:ext cx="210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54800" y="891720"/>
            <a:ext cx="210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5560" y="891720"/>
            <a:ext cx="210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44400" y="3399120"/>
            <a:ext cx="210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54800" y="3399120"/>
            <a:ext cx="210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5560" y="3399120"/>
            <a:ext cx="210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87C0-B18C-4E91-894C-9FF344931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6A46D-AB2F-426C-847A-0E0AEAA8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44400" y="891720"/>
            <a:ext cx="6537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56CCF-FA78-47A1-8E65-E995EACC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44400" y="891720"/>
            <a:ext cx="6537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1F612-7EEE-4A0D-BADD-59128D52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44400" y="891720"/>
            <a:ext cx="318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4200" y="891720"/>
            <a:ext cx="318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1F847-AB97-4041-89B8-D28005A5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BD8B4-4E7D-4AB5-A906-249811AC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5320" y="-62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2E8DF-BEDD-452A-9067-7620A3E1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44400" y="891720"/>
            <a:ext cx="318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4200" y="891720"/>
            <a:ext cx="318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44400" y="3399120"/>
            <a:ext cx="318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46D09-F566-4ED0-BE72-4A0A420C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44400" y="891720"/>
            <a:ext cx="6537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223C-B0D3-49D0-9110-1B4C8D6F6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4400" y="891720"/>
            <a:ext cx="318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4200" y="891720"/>
            <a:ext cx="318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94200" y="3399120"/>
            <a:ext cx="318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1699D-F021-473B-901E-D6D0E1CD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4400" y="891720"/>
            <a:ext cx="318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4200" y="891720"/>
            <a:ext cx="318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44400" y="3399120"/>
            <a:ext cx="6537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F9843-7365-4E4A-9A0B-9A7F4A40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4400" y="891720"/>
            <a:ext cx="6537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44400" y="3399120"/>
            <a:ext cx="6537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BE2D9-CA09-498D-8BB6-9B08B644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44400" y="891720"/>
            <a:ext cx="318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4200" y="891720"/>
            <a:ext cx="318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44400" y="3399120"/>
            <a:ext cx="318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94200" y="3399120"/>
            <a:ext cx="318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65C57-FE33-4BA6-8C07-35FA6EFC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44400" y="891720"/>
            <a:ext cx="210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54800" y="891720"/>
            <a:ext cx="210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5560" y="891720"/>
            <a:ext cx="210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44400" y="3399120"/>
            <a:ext cx="210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54800" y="3399120"/>
            <a:ext cx="210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5560" y="3399120"/>
            <a:ext cx="210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E6622-13E5-4B76-9A70-B59A871D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44400" y="891720"/>
            <a:ext cx="6537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9FD0-5C17-49BC-930A-07C9C62EF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44400" y="891720"/>
            <a:ext cx="318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4200" y="891720"/>
            <a:ext cx="318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121E-45F7-4F90-BC41-90A3FB3C4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15C1-220F-4B38-BFFA-2B73F1F6C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5320" y="-62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4761-1714-438E-86AC-EF85D5B0B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44400" y="891720"/>
            <a:ext cx="318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4200" y="891720"/>
            <a:ext cx="318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44400" y="3399120"/>
            <a:ext cx="318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DA91-1ADC-4B17-96C4-884E41AB6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44400" y="891720"/>
            <a:ext cx="318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4200" y="891720"/>
            <a:ext cx="318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4200" y="3399120"/>
            <a:ext cx="318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99D54-6358-4361-B868-00919AE46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44400" y="891720"/>
            <a:ext cx="318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4200" y="891720"/>
            <a:ext cx="318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44400" y="3399120"/>
            <a:ext cx="6537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5DF8-2053-4A8D-B249-46C0CCB90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Click to edit the title text format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44400" y="891720"/>
            <a:ext cx="6537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587"/>
              </a:spcBef>
              <a:buClr>
                <a:srgbClr val="99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Second Outline Level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Third Outline Level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Fourth Outline Level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1587"/>
              </a:spcBef>
              <a:buClr>
                <a:srgbClr val="ffff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Fifth Outline Level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1587"/>
              </a:spcBef>
              <a:buClr>
                <a:srgbClr val="ffff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Sixth Outline Level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1587"/>
              </a:spcBef>
              <a:buClr>
                <a:srgbClr val="ffff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Seventh Outline Level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05400" y="6369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d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E254-9BB7-44BA-94FB-F6DB188B36BB}" type="slidenum">
              <a:rPr b="1" lang="en-US" sz="1200" spc="-1" strike="noStrike">
                <a:solidFill>
                  <a:srgbClr val="ffffd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6040" y="785880"/>
            <a:ext cx="7916760" cy="0"/>
          </a:xfrm>
          <a:prstGeom prst="line">
            <a:avLst/>
          </a:prstGeom>
          <a:ln w="15840">
            <a:solidFill>
              <a:srgbClr val="ffff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12800" y="6473880"/>
            <a:ext cx="7916760" cy="0"/>
          </a:xfrm>
          <a:prstGeom prst="line">
            <a:avLst/>
          </a:prstGeom>
          <a:ln w="15840">
            <a:solidFill>
              <a:srgbClr val="ffff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4d4d4d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2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d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d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d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d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d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8B6F-57DB-4683-9EA9-8FF8A005B6E3}" type="slidenum">
              <a:rPr b="0" lang="en-US" sz="1400" spc="-1" strike="noStrike">
                <a:solidFill>
                  <a:srgbClr val="ffffd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3598920" y="1638360"/>
            <a:ext cx="5325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Click to edit the title text format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db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ffffdb"/>
              </a:solidFill>
              <a:latin typeface="Arial"/>
            </a:endParaRPr>
          </a:p>
          <a:p>
            <a:pPr lvl="1" marL="457200" indent="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db"/>
              </a:solidFill>
              <a:latin typeface="Arial"/>
            </a:endParaRPr>
          </a:p>
          <a:p>
            <a:pPr lvl="2" marL="914400" algn="ctr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Third Outline Level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lvl="3" marL="1371600" algn="ctr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13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Fourth Outline Level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lvl="4" marL="1828800" algn="ctr">
              <a:lnSpc>
                <a:spcPct val="110000"/>
              </a:lnSpc>
              <a:spcBef>
                <a:spcPts val="1687"/>
              </a:spcBef>
              <a:buClr>
                <a:srgbClr val="ffffdb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d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db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d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db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d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d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786120" y="1638000"/>
            <a:ext cx="5229360" cy="34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d1"/>
                </a:solidFill>
                <a:latin typeface="Georgia"/>
              </a:rPr>
              <a:t>Proposed Recommendations </a:t>
            </a:r>
            <a:br>
              <a:rPr sz="2900"/>
            </a:br>
            <a:r>
              <a:rPr b="0" i="1" lang="en-US" sz="2900" spc="-1" strike="noStrike">
                <a:solidFill>
                  <a:srgbClr val="ffffd1"/>
                </a:solidFill>
                <a:latin typeface="Georgia"/>
              </a:rPr>
              <a:t>for Guidelines Revisions</a:t>
            </a:r>
            <a:br>
              <a:rPr sz="2900"/>
            </a:br>
            <a:br>
              <a:rPr sz="2900"/>
            </a:br>
            <a:endParaRPr b="0" i="1" lang="en-US" sz="2900" spc="-1" strike="noStrike">
              <a:solidFill>
                <a:srgbClr val="ffffdb"/>
              </a:solidFill>
              <a:latin typeface="Georgi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8040" y="1266840"/>
            <a:ext cx="2970360" cy="374004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25320" y="-6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1 – Section C </a:t>
            </a:r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9023"/>
          <a:stretch/>
        </p:blipFill>
        <p:spPr>
          <a:xfrm>
            <a:off x="844560" y="871560"/>
            <a:ext cx="7772400" cy="3114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0" t="28467" r="0" b="63670"/>
          <a:stretch/>
        </p:blipFill>
        <p:spPr>
          <a:xfrm>
            <a:off x="849240" y="4316400"/>
            <a:ext cx="7772400" cy="790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0" t="0" r="0" b="95409"/>
          <a:stretch/>
        </p:blipFill>
        <p:spPr>
          <a:xfrm>
            <a:off x="849240" y="3976560"/>
            <a:ext cx="7772400" cy="462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43000" y="3727440"/>
            <a:ext cx="8723160" cy="1276200"/>
          </a:xfrm>
          <a:prstGeom prst="rect">
            <a:avLst/>
          </a:prstGeom>
          <a:solidFill>
            <a:srgbClr val="ffd175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d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66cc"/>
                </a:solidFill>
                <a:latin typeface="Arial"/>
              </a:rPr>
              <a:t>          </a:t>
            </a:r>
            <a:r>
              <a:rPr b="1" lang="en-US" sz="1300" spc="-1" strike="noStrike" u="sng">
                <a:solidFill>
                  <a:srgbClr val="0066cc"/>
                </a:solidFill>
                <a:uFillTx/>
                <a:latin typeface="Arial"/>
              </a:rPr>
              <a:t>Category I</a:t>
            </a:r>
            <a:r>
              <a:rPr b="1" lang="en-US" sz="13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lang="en-US" sz="1300" spc="-1" strike="noStrike" u="sng">
                <a:solidFill>
                  <a:srgbClr val="0066cc"/>
                </a:solidFill>
                <a:uFillTx/>
                <a:latin typeface="Arial"/>
              </a:rPr>
              <a:t>Category II</a:t>
            </a:r>
            <a:r>
              <a:rPr b="1" lang="en-US" sz="13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1" lang="en-US" sz="1300" spc="-1" strike="noStrike" u="sng">
                <a:solidFill>
                  <a:srgbClr val="0066cc"/>
                </a:solidFill>
                <a:uFillTx/>
                <a:latin typeface="Arial"/>
              </a:rPr>
              <a:t>Other</a:t>
            </a:r>
            <a:endParaRPr b="0" lang="en-US" sz="1300" spc="-1" strike="noStrike">
              <a:solidFill>
                <a:srgbClr val="ffffd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M.  Damage/destroy any property or monument&gt;=$1000 (1 count) ….. 32 ……….. 16 ….....  8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23E13-C33E-4570-A134-67D8D825EB83}" type="slidenum">
              <a:t>10</a:t>
            </a:fld>
          </a:p>
        </p:txBody>
      </p:sp>
    </p:spTree>
  </p:cSld>
  <p:transition>
    <p:circl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1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39760" y="5718240"/>
            <a:ext cx="768240" cy="96660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  <p:graphicFrame>
        <p:nvGraphicFramePr>
          <p:cNvPr id="135" name=""/>
          <p:cNvGraphicFramePr/>
          <p:nvPr/>
        </p:nvGraphicFramePr>
        <p:xfrm>
          <a:off x="2340000" y="1847880"/>
          <a:ext cx="4309920" cy="2509920"/>
        </p:xfrm>
        <a:graphic>
          <a:graphicData uri="http://schemas.openxmlformats.org/drawingml/2006/table">
            <a:tbl>
              <a:tblPr/>
              <a:tblGrid>
                <a:gridCol w="2155680"/>
                <a:gridCol w="2154240"/>
              </a:tblGrid>
              <a:tr h="66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1368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solidFill>
                      <a:srgbClr val="588e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Expected Compliance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13680">
                      <a:solidFill>
                        <a:srgbClr val="ffffdb"/>
                      </a:solidFill>
                    </a:lnR>
                    <a:lnT w="1368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solidFill>
                      <a:srgbClr val="588e73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Compliance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53.1%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1368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Mitigation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21.4%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1368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Aggravation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1368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25.5%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1368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13680">
                      <a:solidFill>
                        <a:srgbClr val="ffffd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402640" y="1285920"/>
            <a:ext cx="3114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FY2003 - FY2007 (439 cases)</a:t>
            </a:r>
            <a:endParaRPr b="0" lang="en-US" sz="17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9C6F-E421-433A-AE0D-72684A570221}" type="slidenum">
              <a:t>11</a:t>
            </a:fld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1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14360" y="1604880"/>
            <a:ext cx="6756480" cy="1146240"/>
          </a:xfrm>
          <a:prstGeom prst="rect">
            <a:avLst/>
          </a:prstGeom>
          <a:solidFill>
            <a:srgbClr val="588e73"/>
          </a:solidFill>
          <a:ln w="0">
            <a:noFill/>
          </a:ln>
        </p:spPr>
        <p:txBody>
          <a:bodyPr lIns="228600" rIns="228600" tIns="228600" bIns="228600" anchor="ctr">
            <a:normAutofit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Revise the Miscellaneous Sentencing Guidelines to add the crime of felony vandalism (§ 18.2-137(B,ii)) as proposed.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39760" y="5718240"/>
            <a:ext cx="768240" cy="96660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763A-4D0B-46BE-89D6-8620F7342C01}" type="slidenum">
              <a:t>12</a:t>
            </a:fld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24000" y="2065320"/>
            <a:ext cx="6067440" cy="0"/>
          </a:xfrm>
          <a:prstGeom prst="line">
            <a:avLst/>
          </a:prstGeom>
          <a:ln w="12600">
            <a:solidFill>
              <a:srgbClr val="ffff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2130480"/>
            <a:ext cx="528480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2:</a:t>
            </a:r>
            <a:br>
              <a:rPr sz="2400"/>
            </a:b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Distribution of a Schedule III Drug (Not Anabolic Steroid)</a:t>
            </a:r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65080" y="1430280"/>
            <a:ext cx="1909800" cy="240516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5320" y="-16236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Distribution of a Schedule III Drug (Not Anabolic Steroid), § 18.2-248(E1)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38120" y="1187280"/>
            <a:ext cx="675648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87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Issue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Currently, distribution of a Schedule III drug (not anabolic steroid) under § 18.2-248(E1) is not covered by the sentencing guidelines.</a:t>
            </a:r>
            <a:endParaRPr b="0" lang="en-US" sz="1700" spc="-1" strike="noStrike">
              <a:solidFill>
                <a:srgbClr val="ffffdb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The offense was elevated from a Class 1 misdemeanor to a Class 5 felony by the 2005 General Assembly.</a:t>
            </a:r>
            <a:endParaRPr b="0" lang="en-US" sz="1700" spc="-1" strike="noStrike">
              <a:solidFill>
                <a:srgbClr val="ffffdb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According to the Pre/Post-Sentence Investigation (PSI) database, there were 66 cases where this crime was the most serious offense between FY2006 and FY2008.</a:t>
            </a:r>
            <a:endParaRPr b="0" lang="en-US" sz="1700" spc="-1" strike="noStrike">
              <a:solidFill>
                <a:srgbClr val="ffffdb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Prosecutors have requested that the offense be added to the guidelines.</a:t>
            </a:r>
            <a:endParaRPr b="0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39760" y="5718240"/>
            <a:ext cx="768240" cy="96660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0CC2C-A460-4AEF-8DE2-DB38983AE47D}" type="slidenum">
              <a:t>14</a:t>
            </a:fld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9760" y="5718240"/>
            <a:ext cx="768240" cy="96660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  <p:graphicFrame>
        <p:nvGraphicFramePr>
          <p:cNvPr id="147" name=""/>
          <p:cNvGraphicFramePr/>
          <p:nvPr/>
        </p:nvGraphicFramePr>
        <p:xfrm>
          <a:off x="1938240" y="1901880"/>
          <a:ext cx="5491440" cy="2914560"/>
        </p:xfrm>
        <a:graphic>
          <a:graphicData uri="http://schemas.openxmlformats.org/drawingml/2006/table">
            <a:tbl>
              <a:tblPr/>
              <a:tblGrid>
                <a:gridCol w="2379600"/>
                <a:gridCol w="1473480"/>
                <a:gridCol w="1638360"/>
              </a:tblGrid>
              <a:tr h="665280"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Disposition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182880" marR="90000">
                    <a:lnL w="1368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1368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solidFill>
                      <a:srgbClr val="588e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Percent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1368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solidFill>
                      <a:srgbClr val="588e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Median Sentence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13680">
                      <a:solidFill>
                        <a:srgbClr val="ffffdb"/>
                      </a:solidFill>
                    </a:lnR>
                    <a:lnT w="1368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solidFill>
                      <a:srgbClr val="588e73"/>
                    </a:solidFill>
                  </a:tcPr>
                </a:tc>
              </a:tr>
              <a:tr h="657000"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No Incarceration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182880" marR="90000">
                    <a:lnL w="1368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33%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1368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Incarceration 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Up to 6 Months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182880" marR="90000">
                    <a:lnL w="1368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24%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6 Months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1368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Incarceration 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More than 6 Months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182880" marR="90000">
                    <a:lnL w="1368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1368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43%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1368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1.4 Years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1368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13680">
                      <a:solidFill>
                        <a:srgbClr val="ffffd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2105640" y="1357200"/>
            <a:ext cx="2994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FY2006 - FY2008 (66 cases)</a:t>
            </a:r>
            <a:endParaRPr b="0" lang="en-US" sz="17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5320" y="-16236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Distribution of a Schedule III Drug (Not Anabolic Steroid), § 18.2-248(E1)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B078-81A1-449A-BF38-8203EE9888B9}" type="slidenum">
              <a:t>15</a:t>
            </a:fld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5320" y="-6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2</a:t>
            </a:r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74784"/>
          <a:stretch/>
        </p:blipFill>
        <p:spPr>
          <a:xfrm>
            <a:off x="843120" y="1015920"/>
            <a:ext cx="7772400" cy="2535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0" t="22946" r="0" b="65105"/>
          <a:stretch/>
        </p:blipFill>
        <p:spPr>
          <a:xfrm>
            <a:off x="838080" y="4010040"/>
            <a:ext cx="7772400" cy="1201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rcRect l="0" t="0" r="0" b="95409"/>
          <a:stretch/>
        </p:blipFill>
        <p:spPr>
          <a:xfrm>
            <a:off x="849240" y="3548160"/>
            <a:ext cx="7772400" cy="461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6960" y="3343680"/>
            <a:ext cx="8534520" cy="702360"/>
          </a:xfrm>
          <a:prstGeom prst="rect">
            <a:avLst/>
          </a:prstGeom>
          <a:solidFill>
            <a:srgbClr val="ffd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571680" indent="-339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db"/>
              </a:solidFill>
              <a:latin typeface="Times New Roman"/>
            </a:endParaRPr>
          </a:p>
          <a:p>
            <a:pPr lvl="1" marL="571680" indent="-339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tribute, etc. a Schedule III drug-not anabolic steroid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1 count) .....................  8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 lvl="1" marL="571680" indent="-339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db"/>
              </a:solidFill>
              <a:latin typeface="Times New Roman"/>
            </a:endParaRPr>
          </a:p>
          <a:p>
            <a:pPr lvl="1" marL="571680" indent="-339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2D0F-DD35-4CC1-A478-50EB0FAE5460}" type="slidenum">
              <a:t>16</a:t>
            </a:fld>
          </a:p>
        </p:txBody>
      </p:sp>
    </p:spTree>
  </p:cSld>
  <p:transition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25320" y="-6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2</a:t>
            </a:r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0" r="0" b="95409"/>
          <a:stretch/>
        </p:blipFill>
        <p:spPr>
          <a:xfrm>
            <a:off x="835200" y="3333600"/>
            <a:ext cx="7772400" cy="462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0" t="0" r="0" b="76807"/>
          <a:stretch/>
        </p:blipFill>
        <p:spPr>
          <a:xfrm>
            <a:off x="839880" y="1004760"/>
            <a:ext cx="7772400" cy="2332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rcRect l="0" t="21080" r="0" b="67129"/>
          <a:stretch/>
        </p:blipFill>
        <p:spPr>
          <a:xfrm>
            <a:off x="836640" y="3792600"/>
            <a:ext cx="7772400" cy="1185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26960" y="3157920"/>
            <a:ext cx="8534520" cy="702360"/>
          </a:xfrm>
          <a:prstGeom prst="rect">
            <a:avLst/>
          </a:prstGeom>
          <a:solidFill>
            <a:srgbClr val="ffd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571680" indent="-339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db"/>
              </a:solidFill>
              <a:latin typeface="Times New Roman"/>
            </a:endParaRPr>
          </a:p>
          <a:p>
            <a:pPr lvl="1" marL="571680" indent="-3398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.   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tribute, etc. a Schedule III drug-not anabolic steroid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1 count) .....................  6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 lvl="1" marL="571680" indent="-339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db"/>
              </a:solidFill>
              <a:latin typeface="Times New Roman"/>
            </a:endParaRPr>
          </a:p>
          <a:p>
            <a:pPr lvl="1" marL="571680" indent="-339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ADF3-B949-4945-BCEA-9FAE6329B2BF}" type="slidenum">
              <a:t>17</a:t>
            </a:fld>
          </a:p>
        </p:txBody>
      </p:sp>
    </p:spTree>
  </p:cSld>
  <p:transition>
    <p:circl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25320" y="-6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2</a:t>
            </a:r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95409"/>
          <a:stretch/>
        </p:blipFill>
        <p:spPr>
          <a:xfrm>
            <a:off x="839880" y="4048200"/>
            <a:ext cx="7772400" cy="461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0" t="0" r="0" b="69589"/>
          <a:stretch/>
        </p:blipFill>
        <p:spPr>
          <a:xfrm>
            <a:off x="839880" y="1004760"/>
            <a:ext cx="7772400" cy="3057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0" t="29924" r="0" b="63122"/>
          <a:stretch/>
        </p:blipFill>
        <p:spPr>
          <a:xfrm>
            <a:off x="839880" y="4924440"/>
            <a:ext cx="7772400" cy="700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rcRect l="0" t="0" r="0" b="95409"/>
          <a:stretch/>
        </p:blipFill>
        <p:spPr>
          <a:xfrm>
            <a:off x="839880" y="4487760"/>
            <a:ext cx="7772400" cy="462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01520" y="4056120"/>
            <a:ext cx="8636040" cy="1348920"/>
          </a:xfrm>
          <a:prstGeom prst="rect">
            <a:avLst/>
          </a:prstGeom>
          <a:solidFill>
            <a:srgbClr val="ffd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d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Category I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Category II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Other</a:t>
            </a:r>
            <a:endParaRPr b="0" lang="en-US" sz="1300" spc="-1" strike="noStrike">
              <a:solidFill>
                <a:srgbClr val="ffffd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.  Distribute, etc. a Schedule III drug-not anabolic steroid (1 count) …. 64 ……. 32 …….  16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64FA-D8ED-4940-BB76-64FE2152AA4B}" type="slidenum">
              <a:t>18</a:t>
            </a:fld>
          </a:p>
        </p:txBody>
      </p:sp>
    </p:spTree>
  </p:cSld>
  <p:transition>
    <p:circl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2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39760" y="5718240"/>
            <a:ext cx="768240" cy="96660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  <p:graphicFrame>
        <p:nvGraphicFramePr>
          <p:cNvPr id="168" name=""/>
          <p:cNvGraphicFramePr/>
          <p:nvPr/>
        </p:nvGraphicFramePr>
        <p:xfrm>
          <a:off x="2340000" y="1847880"/>
          <a:ext cx="4309920" cy="2509920"/>
        </p:xfrm>
        <a:graphic>
          <a:graphicData uri="http://schemas.openxmlformats.org/drawingml/2006/table">
            <a:tbl>
              <a:tblPr/>
              <a:tblGrid>
                <a:gridCol w="2155680"/>
                <a:gridCol w="2154240"/>
              </a:tblGrid>
              <a:tr h="66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1368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solidFill>
                      <a:srgbClr val="588e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Expected Compliance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13680">
                      <a:solidFill>
                        <a:srgbClr val="ffffdb"/>
                      </a:solidFill>
                    </a:lnR>
                    <a:lnT w="1368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solidFill>
                      <a:srgbClr val="588e73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Compliance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61%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1368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Mitigation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8%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1368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Aggravation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1368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32%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1368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13680">
                      <a:solidFill>
                        <a:srgbClr val="ffffd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2462760" y="1285920"/>
            <a:ext cx="2994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FY2006 - FY2008 (66 cases)</a:t>
            </a:r>
            <a:endParaRPr b="0" lang="en-US" sz="17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EF48-B967-47F8-8C97-715E82DCCB56}" type="slidenum">
              <a:t>19</a:t>
            </a:fld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0640" y="-6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als for Guidelines Revisions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27360" y="1039320"/>
            <a:ext cx="599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76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Best fit for the data 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76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Steps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lvl="1" marL="743040" indent="-285840">
              <a:spcBef>
                <a:spcPts val="1276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Review existing worksheet, compliance patterns and departure reasons</a:t>
            </a:r>
            <a:endParaRPr b="0" lang="en-US" sz="1700" spc="-1" strike="noStrike">
              <a:solidFill>
                <a:srgbClr val="ffffdb"/>
              </a:solidFill>
              <a:latin typeface="Arial"/>
            </a:endParaRPr>
          </a:p>
          <a:p>
            <a:pPr lvl="1" marL="743040" indent="-285840">
              <a:spcBef>
                <a:spcPts val="1276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Test revised scoring scenarios</a:t>
            </a:r>
            <a:endParaRPr b="0" lang="en-US" sz="1700" spc="-1" strike="noStrike">
              <a:solidFill>
                <a:srgbClr val="ffffdb"/>
              </a:solidFill>
              <a:latin typeface="Arial"/>
            </a:endParaRPr>
          </a:p>
          <a:p>
            <a:pPr lvl="1" marL="743040" indent="-285840">
              <a:spcBef>
                <a:spcPts val="1276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Project judicial concurrence with proposal</a:t>
            </a:r>
            <a:endParaRPr b="0" lang="en-US" sz="1700" spc="-1" strike="noStrike">
              <a:solidFill>
                <a:srgbClr val="ffffdb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1276"/>
              </a:spcBef>
              <a:buClr>
                <a:srgbClr val="77d3a7"/>
              </a:buClr>
              <a:buSzPct val="13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Score cases using guidelines data and/or               pre-sentence report information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1276"/>
              </a:spcBef>
              <a:buClr>
                <a:srgbClr val="77d3a7"/>
              </a:buClr>
              <a:buSzPct val="13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Use current Recommendation Tables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lvl="1" marL="743040" indent="-285840">
              <a:spcBef>
                <a:spcPts val="1276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Maximize compliance and balance departures,                 if possible</a:t>
            </a:r>
            <a:endParaRPr b="0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9760" y="5718240"/>
            <a:ext cx="768240" cy="96660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4EF6-28E3-4E92-A631-42419C17B254}" type="slidenum">
              <a:t>2</a:t>
            </a:fld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2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2520" y="1604880"/>
            <a:ext cx="6480360" cy="1146240"/>
          </a:xfrm>
          <a:prstGeom prst="rect">
            <a:avLst/>
          </a:prstGeom>
          <a:solidFill>
            <a:srgbClr val="588e73"/>
          </a:solidFill>
          <a:ln w="0">
            <a:noFill/>
          </a:ln>
        </p:spPr>
        <p:txBody>
          <a:bodyPr lIns="228600" rIns="228600" tIns="228600" bIns="228600" anchor="ctr">
            <a:normAutofit fontScale="84000"/>
          </a:bodyPr>
          <a:p>
            <a:pPr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Revise the Drug/Other Guidelines to add the distribution of a Schedule III drug-not anabolic steroid (§</a:t>
            </a:r>
            <a:r>
              <a:rPr b="1" lang="en-US" sz="1600" spc="-1" strike="noStrike">
                <a:solidFill>
                  <a:srgbClr val="ffffdb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18.2-248(E1)) as proposed.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9760" y="5718240"/>
            <a:ext cx="768240" cy="96660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0F18-6C2F-44E7-A8EE-970E2DA246BF}" type="slidenum">
              <a:t>20</a:t>
            </a:fld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124000" y="2065320"/>
            <a:ext cx="6067440" cy="0"/>
          </a:xfrm>
          <a:prstGeom prst="line">
            <a:avLst/>
          </a:prstGeom>
          <a:ln w="12600">
            <a:solidFill>
              <a:srgbClr val="ffff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2130480"/>
            <a:ext cx="582156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3:</a:t>
            </a:r>
            <a:br>
              <a:rPr sz="2400"/>
            </a:b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Child Abuse/Neglect with </a:t>
            </a:r>
            <a:br>
              <a:rPr sz="2400"/>
            </a:b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Serious Injury </a:t>
            </a:r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65080" y="1430280"/>
            <a:ext cx="1909800" cy="240516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5320" y="-637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Child Abuse/Neglect with Serious Injury, § 18.2-371.1 (A)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14360" y="1025640"/>
            <a:ext cx="6888240" cy="53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375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Issue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lvl="1" marL="798480" indent="-341280">
              <a:lnSpc>
                <a:spcPct val="110000"/>
              </a:lnSpc>
              <a:spcBef>
                <a:spcPts val="950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Between FY2003 and FY2007, overall compliance for Child Abuse/Neglect with Serious Injury was 43.7%,  with an aggravation rate of 42.7%.</a:t>
            </a:r>
            <a:endParaRPr b="0" lang="en-US" sz="1700" spc="-1" strike="noStrike">
              <a:solidFill>
                <a:srgbClr val="ffffdb"/>
              </a:solidFill>
              <a:latin typeface="Arial"/>
            </a:endParaRPr>
          </a:p>
          <a:p>
            <a:pPr lvl="2" marL="1262160" indent="-347760">
              <a:lnSpc>
                <a:spcPct val="110000"/>
              </a:lnSpc>
              <a:spcBef>
                <a:spcPts val="1375"/>
              </a:spcBef>
              <a:buClr>
                <a:srgbClr val="77d3a7"/>
              </a:buClr>
              <a:buSzPct val="13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Analysis has revealed that numerous cases of non-guidelines child abuse offenses were scored out on these guidelines when they should not have been.  These cases are excluded from the figures above.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lvl="1" marL="798480" indent="-341280">
              <a:lnSpc>
                <a:spcPct val="110000"/>
              </a:lnSpc>
              <a:spcBef>
                <a:spcPts val="1375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The Commission recommended, and the General Assembly did not reject, revisions to the guidelines for this offense, effective July 1, 2008.  </a:t>
            </a:r>
            <a:endParaRPr b="0" lang="en-US" sz="1700" spc="-1" strike="noStrike">
              <a:solidFill>
                <a:srgbClr val="ffffdb"/>
              </a:solidFill>
              <a:latin typeface="Arial"/>
            </a:endParaRPr>
          </a:p>
          <a:p>
            <a:pPr lvl="2" marL="1262160" indent="-347760">
              <a:lnSpc>
                <a:spcPct val="110000"/>
              </a:lnSpc>
              <a:spcBef>
                <a:spcPts val="1375"/>
              </a:spcBef>
              <a:buClr>
                <a:srgbClr val="77d3a7"/>
              </a:buClr>
              <a:buSzPct val="13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The revisions were projected to improve compliance, albeit modestly. The Commission directed staff to continue examining this offense in hopes that the guidelines could be further improved. 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39760" y="5718240"/>
            <a:ext cx="768240" cy="96660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3FA3-A1CF-415E-8129-25F87ABC7126}" type="slidenum">
              <a:t>22</a:t>
            </a:fld>
          </a:p>
        </p:txBody>
      </p:sp>
    </p:spTree>
  </p:cSld>
  <p:transition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0640" y="-19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Most Frequently Cited Departure Reasons, </a:t>
            </a:r>
            <a:br>
              <a:rPr sz="2400"/>
            </a:b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FY2003-FY2007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14480" y="1117080"/>
            <a:ext cx="4022640" cy="539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Mitigation (13.6%)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Plea Agreement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Cooperated with authorities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Has made progress in rehabilitation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Weak evidence/witness refused to testify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Alternative sanction imposed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2 offenders: </a:t>
            </a:r>
            <a:endParaRPr b="0" lang="en-US" sz="1700" spc="-1" strike="noStrike">
              <a:solidFill>
                <a:srgbClr val="ffffdb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1 received teen challenge, </a:t>
            </a:r>
            <a:endParaRPr b="0" lang="en-US" sz="1700" spc="-1" strike="noStrike">
              <a:solidFill>
                <a:srgbClr val="ffffdb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1 sentenced to Diversion Center</a:t>
            </a:r>
            <a:endParaRPr b="0" lang="en-US" sz="1700" spc="-1" strike="noStrike">
              <a:solidFill>
                <a:srgbClr val="ffffdb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430600" y="1117080"/>
            <a:ext cx="353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Aggravation (42.7%)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Extreme injury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Vulnerable victim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Facts of the case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Child victim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Guidelines recommendation  is too low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39760" y="5718240"/>
            <a:ext cx="768240" cy="96660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8A78-5B33-4029-AA72-DDBDF26CB189}" type="slidenum">
              <a:t>23</a:t>
            </a:fld>
          </a:p>
        </p:txBody>
      </p:sp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664240" y="2943360"/>
            <a:ext cx="914400" cy="366480"/>
          </a:xfrm>
          <a:prstGeom prst="rect">
            <a:avLst/>
          </a:prstGeom>
          <a:solidFill>
            <a:srgbClr val="588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4960" y="-637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Child Abuse/Neglect with Serious Injury, § 18.2-371.1 (A)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2520" y="1023840"/>
          <a:ext cx="8319960" cy="3149640"/>
        </p:xfrm>
        <a:graphic>
          <a:graphicData uri="http://schemas.openxmlformats.org/drawingml/2006/table">
            <a:tbl>
              <a:tblPr/>
              <a:tblGrid>
                <a:gridCol w="3565440"/>
                <a:gridCol w="1281240"/>
                <a:gridCol w="1755720"/>
                <a:gridCol w="1717560"/>
              </a:tblGrid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Recommended Disposition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db"/>
                      </a:solidFill>
                    </a:lnR>
                    <a:lnT>
                      <a:noFill/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Probation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db"/>
                      </a:solidFill>
                    </a:lnL>
                    <a:lnR>
                      <a:noFill/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Incarceration         1 day - 6 mos.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Incarceration over 6 mos.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Probation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72.7%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db"/>
                      </a:solidFill>
                    </a:lnL>
                    <a:lnR>
                      <a:noFill/>
                    </a:lnR>
                    <a:lnT w="5760">
                      <a:solidFill>
                        <a:srgbClr val="ffffd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18.2%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d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9.1%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db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Incarceration 1 day - 6 months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d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13.5%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db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40.5%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46.0%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Incarceration over 6 months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db"/>
                      </a:solidFill>
                    </a:lnR>
                    <a:lnT>
                      <a:noFill/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8.1%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d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9.7%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82.3%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d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15.1%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d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29.6%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d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55.3%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db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5024520" y="1297080"/>
            <a:ext cx="2278080" cy="35316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Actual Disposition</a:t>
            </a:r>
            <a:endParaRPr b="0" lang="en-US" sz="1700" spc="-1" strike="noStrike">
              <a:solidFill>
                <a:srgbClr val="ffffdb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39760" y="5718240"/>
            <a:ext cx="768240" cy="96660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F0A2-3D3B-447A-A22A-695F7C7CE9A6}" type="slidenum">
              <a:t>24</a:t>
            </a:fld>
          </a:p>
        </p:txBody>
      </p:sp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57120" y="985320"/>
            <a:ext cx="70894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Based on a special study of child abuse cases conducted     this year, the high aggravation rate is partially attributable to victim injury, victim vulnerability, and the number of victims.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d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For Section A, three avenues were explored: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Adjusting victim injury factor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Adding a factor for age of youngest victim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Adding a factor for number of victims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d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For Section C, several approaches were considered: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Increasing primary offense scores, increasing the victim injury scores, adding a new category of injury, adding a factor for age of youngest victim, and adding  a factor for number of victims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625320" y="-6228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Child Abuse/Neglect with Serious Injury, § 18.2-371.1 (A)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39760" y="5718240"/>
            <a:ext cx="768240" cy="96660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3B22-1AB1-4427-AE28-171A13D2C23B}" type="slidenum">
              <a:t>25</a:t>
            </a:fld>
          </a:p>
        </p:txBody>
      </p:sp>
    </p:spTree>
  </p:cSld>
  <p:transition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3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954920" y="3489480"/>
            <a:ext cx="914400" cy="304560"/>
            <a:chOff x="7954920" y="3489480"/>
            <a:chExt cx="914400" cy="304560"/>
          </a:xfrm>
        </p:grpSpPr>
        <p:sp>
          <p:nvSpPr>
            <p:cNvPr id="193" name=""/>
            <p:cNvSpPr/>
            <p:nvPr/>
          </p:nvSpPr>
          <p:spPr>
            <a:xfrm>
              <a:off x="7954920" y="3489480"/>
              <a:ext cx="304920" cy="304560"/>
            </a:xfrm>
            <a:prstGeom prst="rect">
              <a:avLst/>
            </a:prstGeom>
            <a:solidFill>
              <a:srgbClr val="eded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db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259840" y="3489480"/>
              <a:ext cx="304560" cy="304560"/>
            </a:xfrm>
            <a:prstGeom prst="rect">
              <a:avLst/>
            </a:prstGeom>
            <a:solidFill>
              <a:srgbClr val="eded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db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564400" y="3489480"/>
              <a:ext cx="304920" cy="304560"/>
            </a:xfrm>
            <a:prstGeom prst="rect">
              <a:avLst/>
            </a:prstGeom>
            <a:solidFill>
              <a:srgbClr val="eded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db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475080" y="3063960"/>
            <a:ext cx="4937040" cy="365040"/>
            <a:chOff x="3475080" y="3063960"/>
            <a:chExt cx="4937040" cy="365040"/>
          </a:xfrm>
        </p:grpSpPr>
        <p:sp>
          <p:nvSpPr>
            <p:cNvPr id="197" name=""/>
            <p:cNvSpPr/>
            <p:nvPr/>
          </p:nvSpPr>
          <p:spPr>
            <a:xfrm>
              <a:off x="841212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db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75080" y="3063960"/>
              <a:ext cx="493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db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12120" y="3063960"/>
              <a:ext cx="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db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81080" y="1684440"/>
            <a:ext cx="1958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bb3300"/>
                </a:solidFill>
                <a:uFillTx/>
                <a:latin typeface="Arial"/>
              </a:rPr>
              <a:t>NEW FACTOR</a:t>
            </a:r>
            <a:endParaRPr b="0" lang="en-US" sz="1800" spc="-1" strike="noStrike">
              <a:solidFill>
                <a:srgbClr val="ffffd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bb3300"/>
                </a:solidFill>
                <a:uFillTx/>
                <a:latin typeface="Arial"/>
              </a:rPr>
              <a:t>ON SECTION A</a:t>
            </a:r>
            <a:endParaRPr b="0" lang="en-US" sz="18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6040" y="785880"/>
            <a:ext cx="7916760" cy="0"/>
          </a:xfrm>
          <a:prstGeom prst="line">
            <a:avLst/>
          </a:prstGeom>
          <a:ln w="15840">
            <a:solidFill>
              <a:srgbClr val="ffff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3177" t="3183" r="0" b="4637"/>
          <a:stretch/>
        </p:blipFill>
        <p:spPr>
          <a:xfrm>
            <a:off x="2489040" y="901800"/>
            <a:ext cx="4899240" cy="6032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14480" y="2606760"/>
            <a:ext cx="8969040" cy="2035080"/>
          </a:xfrm>
          <a:prstGeom prst="rect">
            <a:avLst/>
          </a:prstGeom>
          <a:solidFill>
            <a:srgbClr val="ffd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1c1c1c"/>
                </a:solidFill>
                <a:uFillTx/>
                <a:latin typeface="Arial"/>
              </a:rPr>
              <a:t>SCORE THE FOLLOWING FACTOR ONLY IF PRIMARY OFFENSE IS CHILD NEGLECT/ABUSE, SERIOUS INJURY</a:t>
            </a:r>
            <a:r>
              <a:rPr b="1" lang="en-US" sz="1200" spc="-1" strike="noStrike" u="sng">
                <a:solidFill>
                  <a:srgbClr val="1c1c1c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1c1c1c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1c1c1c"/>
                </a:solidFill>
                <a:latin typeface="Arial"/>
              </a:rPr>
              <a:t>Age of Youngest Victim at Time of Offense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1c1c1c"/>
                </a:solidFill>
                <a:latin typeface="Arial"/>
              </a:rPr>
              <a:t>Less than 8 years old .......................................................................................... 10 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1c1c1c"/>
                </a:solidFill>
                <a:latin typeface="Arial"/>
              </a:rPr>
              <a:t>8 – 11 years old ...................................................................................................... 5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1c1c1c"/>
                </a:solidFill>
                <a:latin typeface="Arial"/>
              </a:rPr>
              <a:t>12 years or older .................................................................................................... 2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D2C8-1BB3-455E-A546-92C3BECEAE22}" type="slidenum">
              <a:t>26</a:t>
            </a:fld>
          </a:p>
        </p:txBody>
      </p:sp>
    </p:spTree>
  </p:cSld>
  <p:transition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4470" t="2911" r="0" b="2671"/>
          <a:stretch/>
        </p:blipFill>
        <p:spPr>
          <a:xfrm>
            <a:off x="2486160" y="905040"/>
            <a:ext cx="4825800" cy="61704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3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206" name=""/>
          <p:cNvSpPr/>
          <p:nvPr/>
        </p:nvSpPr>
        <p:spPr>
          <a:xfrm>
            <a:off x="181080" y="1684440"/>
            <a:ext cx="1958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bb3300"/>
                </a:solidFill>
                <a:uFillTx/>
                <a:latin typeface="Arial"/>
              </a:rPr>
              <a:t>NEW FACTOR</a:t>
            </a:r>
            <a:endParaRPr b="0" lang="en-US" sz="1800" spc="-1" strike="noStrike">
              <a:solidFill>
                <a:srgbClr val="ffffd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bb3300"/>
                </a:solidFill>
                <a:uFillTx/>
                <a:latin typeface="Arial"/>
              </a:rPr>
              <a:t>ON SECTION C</a:t>
            </a:r>
            <a:endParaRPr b="0" lang="en-US" sz="18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0080" y="2606760"/>
            <a:ext cx="8955000" cy="2093040"/>
          </a:xfrm>
          <a:prstGeom prst="rect">
            <a:avLst/>
          </a:prstGeom>
          <a:solidFill>
            <a:srgbClr val="ffd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1c1c1c"/>
                </a:solidFill>
                <a:uFillTx/>
                <a:latin typeface="Arial"/>
              </a:rPr>
              <a:t>SCORE THE FOLLOWING FACTOR ONLY IF PRIMARY OFFENSE IS CHILD NEGLECT/ABUSE, SERIOUS INJURY</a:t>
            </a:r>
            <a:endParaRPr b="0" lang="en-US" sz="13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1c1c1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1c1c1c"/>
                </a:solidFill>
                <a:latin typeface="Arial"/>
              </a:rPr>
              <a:t>Number of Victims 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1c1c1c"/>
                </a:solidFill>
                <a:latin typeface="Arial"/>
              </a:rPr>
              <a:t>1 victim .................................................................................................................  3 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1c1c1c"/>
                </a:solidFill>
                <a:latin typeface="Arial"/>
              </a:rPr>
              <a:t>2 victims ...............................................................................................................  4 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1c1c1c"/>
                </a:solidFill>
                <a:latin typeface="Arial"/>
              </a:rPr>
              <a:t>3 or more victims ................................................................................................ 13</a:t>
            </a:r>
            <a:r>
              <a:rPr b="1" lang="en-US" sz="15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1c1c1c"/>
                </a:solidFill>
                <a:latin typeface="Arial"/>
              </a:rPr>
              <a:t>          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C7CE-C931-4420-B59B-625F3EB39758}" type="slidenum">
              <a:t>27</a:t>
            </a:fld>
          </a:p>
        </p:txBody>
      </p:sp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3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44760" y="1149120"/>
            <a:ext cx="637056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By adding a victim age factor on Section A and a factor representing the number of victims on Section C, the guidelines would better approach current judicial practice and would improve the balance between mitigation and aggravation departures.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35240" y="2359080"/>
          <a:ext cx="5981760" cy="3403440"/>
        </p:xfrm>
        <a:graphic>
          <a:graphicData uri="http://schemas.openxmlformats.org/drawingml/2006/table">
            <a:tbl>
              <a:tblPr/>
              <a:tblGrid>
                <a:gridCol w="1798560"/>
                <a:gridCol w="1414440"/>
                <a:gridCol w="1297080"/>
                <a:gridCol w="1471680"/>
              </a:tblGrid>
              <a:tr h="71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solidFill>
                      <a:srgbClr val="588e7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Current Guidelines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solidFill>
                      <a:srgbClr val="588e7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Proposed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solidFill>
                      <a:srgbClr val="588e7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db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Compliance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43.7%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51.3%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db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Mitigation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13.6%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29.6%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db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Aggravation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42.7%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19.1%</a:t>
                      </a:r>
                      <a:endParaRPr b="0" lang="en-US" sz="16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db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d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d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d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39760" y="5718240"/>
            <a:ext cx="768240" cy="96660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FC5A-B130-4BF8-9B6A-2C5EFA780B2F}" type="slidenum">
              <a:t>28</a:t>
            </a:fld>
          </a:p>
        </p:txBody>
      </p:sp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5320" y="-6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3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90480" y="1371600"/>
            <a:ext cx="6018120" cy="3308400"/>
          </a:xfrm>
          <a:prstGeom prst="rect">
            <a:avLst/>
          </a:prstGeom>
          <a:solidFill>
            <a:srgbClr val="588e73"/>
          </a:solidFill>
          <a:ln w="0">
            <a:noFill/>
          </a:ln>
        </p:spPr>
        <p:txBody>
          <a:bodyPr lIns="228600" rIns="228600" tIns="228600" bIns="228600" anchor="ctr">
            <a:normAutofit/>
          </a:bodyPr>
          <a:p>
            <a:pPr indent="0">
              <a:lnSpc>
                <a:spcPct val="100000"/>
              </a:lnSpc>
              <a:spcBef>
                <a:spcPts val="1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Revise Section A of the Miscellaneous Sentencing Guidelines to increase the likelihood that offenders convicted of Felony Child Abuse/Neglect with Serious Injury are recommended for incarceration of more than 6 months if they abuse younger children.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db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Revise Section C of the Miscellaneous Sentencing Guidelines to increase the length of incarceration recommended based on the number of children abused.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39760" y="5718240"/>
            <a:ext cx="768240" cy="96660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3AA48-050B-4F16-BFD7-5E085F9270C2}" type="slidenum">
              <a:t>29</a:t>
            </a:fld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24000" y="2065320"/>
            <a:ext cx="6067440" cy="0"/>
          </a:xfrm>
          <a:prstGeom prst="line">
            <a:avLst/>
          </a:prstGeom>
          <a:ln w="12600">
            <a:solidFill>
              <a:srgbClr val="ffff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2130480"/>
            <a:ext cx="528480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1:</a:t>
            </a:r>
            <a:br>
              <a:rPr sz="2400"/>
            </a:b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Felony Vandalism</a:t>
            </a:r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65080" y="1430280"/>
            <a:ext cx="1909800" cy="240516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24000" y="2065320"/>
            <a:ext cx="6067440" cy="0"/>
          </a:xfrm>
          <a:prstGeom prst="line">
            <a:avLst/>
          </a:prstGeom>
          <a:ln w="12600">
            <a:solidFill>
              <a:srgbClr val="ffff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2130480"/>
            <a:ext cx="528480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4:</a:t>
            </a:r>
            <a:br>
              <a:rPr sz="2400"/>
            </a:b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Gross, Wanton or Reckless Care </a:t>
            </a:r>
            <a:br>
              <a:rPr sz="2400"/>
            </a:b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of a Child and Cruelty and Injuries </a:t>
            </a:r>
            <a:br>
              <a:rPr sz="2400"/>
            </a:b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to Children </a:t>
            </a:r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65080" y="1430280"/>
            <a:ext cx="1909800" cy="240516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</p:spTree>
  </p:cSld>
  <p:transition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0280" y="-6372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Child Abuse Felonies (§§ 18.2-371.1(B) &amp; 40.1-103)</a:t>
            </a:r>
            <a:r>
              <a:rPr b="1" i="1" lang="en-US" sz="2400" spc="-1" strike="noStrike">
                <a:solidFill>
                  <a:srgbClr val="ffffdb"/>
                </a:solidFill>
                <a:latin typeface="Georgia"/>
              </a:rPr>
              <a:t> 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219" name=""/>
          <p:cNvSpPr/>
          <p:nvPr/>
        </p:nvSpPr>
        <p:spPr>
          <a:xfrm>
            <a:off x="1103400" y="1082520"/>
            <a:ext cx="710388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186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Issue</a:t>
            </a:r>
            <a:endParaRPr b="0" lang="en-US" sz="1700" spc="-1" strike="noStrike">
              <a:solidFill>
                <a:srgbClr val="ffffdb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In November 2007, the Commission recommended     adding guidelines for Gross, Wanton or Reckless Care       of a Child (§ 18.2-371.1(B)) and Cruelty and Injuries to Children (§ 40.1-103).</a:t>
            </a:r>
            <a:endParaRPr b="0" lang="en-US" sz="1700" spc="-1" strike="noStrike">
              <a:solidFill>
                <a:srgbClr val="ffffdb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186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The Commission recommended and the General Assembly approved adding guidelines for this offense, which took effect July 1, 2008.  </a:t>
            </a:r>
            <a:endParaRPr b="0" lang="en-US" sz="1700" spc="-1" strike="noStrike">
              <a:solidFill>
                <a:srgbClr val="ffffdb"/>
              </a:solidFill>
              <a:latin typeface="Times New Roman"/>
            </a:endParaRPr>
          </a:p>
          <a:p>
            <a:pPr lvl="2" marL="1262160" indent="-347760">
              <a:lnSpc>
                <a:spcPct val="110000"/>
              </a:lnSpc>
              <a:spcBef>
                <a:spcPts val="3186"/>
              </a:spcBef>
              <a:buClr>
                <a:srgbClr val="77d3a7"/>
              </a:buClr>
              <a:buSzPct val="13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The new guidelines were projected to result in modest compliance rates. The Commission directed staff to continue examining this offense in hopes that the guidelines could be further improved.</a:t>
            </a:r>
            <a:endParaRPr b="0" lang="en-US" sz="1700" spc="-1" strike="noStrike">
              <a:solidFill>
                <a:srgbClr val="ffffdb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39760" y="5718240"/>
            <a:ext cx="768240" cy="96660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9A71-FA34-44A3-98D1-C1675F18D973}" type="slidenum">
              <a:t>31</a:t>
            </a:fld>
          </a:p>
        </p:txBody>
      </p:sp>
    </p:spTree>
  </p:cSld>
  <p:transition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0280" y="-6372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Child Abuse Felonies (§§ 18.2-371.1(B) &amp; 40.1-103)</a:t>
            </a:r>
            <a:r>
              <a:rPr b="1" i="1" lang="en-US" sz="2400" spc="-1" strike="noStrike">
                <a:solidFill>
                  <a:srgbClr val="ffffdb"/>
                </a:solidFill>
                <a:latin typeface="Georgia"/>
              </a:rPr>
              <a:t> 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222" name=""/>
          <p:cNvSpPr/>
          <p:nvPr/>
        </p:nvSpPr>
        <p:spPr>
          <a:xfrm>
            <a:off x="1103400" y="1353960"/>
            <a:ext cx="71038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186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Analysis</a:t>
            </a:r>
            <a:endParaRPr b="0" lang="en-US" sz="1700" spc="-1" strike="noStrike">
              <a:solidFill>
                <a:srgbClr val="ffffdb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Further analysis of the data suggests that the guidelines should be revised to account for the recklessness, neglect, or endangerment associated with these offenses.  </a:t>
            </a:r>
            <a:endParaRPr b="0" lang="en-US" sz="1700" spc="-1" strike="noStrike">
              <a:solidFill>
                <a:srgbClr val="ffffdb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186"/>
              </a:spcBef>
              <a:buClr>
                <a:srgbClr val="77d3a7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A new category of victim injury can be created specific to  child abuse cases.  </a:t>
            </a:r>
            <a:endParaRPr b="0" lang="en-US" sz="1700" spc="-1" strike="noStrike">
              <a:solidFill>
                <a:srgbClr val="ffffdb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39760" y="5718240"/>
            <a:ext cx="768240" cy="96660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C711-BB3A-4610-95D8-728071DD9B67}" type="slidenum">
              <a:t>32</a:t>
            </a:fld>
          </a:p>
        </p:txBody>
      </p:sp>
    </p:spTree>
  </p:cSld>
  <p:transition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rcRect l="0" t="2091" r="0" b="4637"/>
          <a:stretch/>
        </p:blipFill>
        <p:spPr>
          <a:xfrm>
            <a:off x="293760" y="901800"/>
            <a:ext cx="5054400" cy="6099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95400" y="3998880"/>
            <a:ext cx="8834400" cy="2009880"/>
          </a:xfrm>
          <a:prstGeom prst="rect">
            <a:avLst/>
          </a:prstGeom>
          <a:solidFill>
            <a:srgbClr val="ffd175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ictim Injury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imary offense VCC prefix other than “FAM”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imary Offense with VCC prefix of “FAM”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reatened, emotional, or physical .......... 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Reckless care, neglect, endangerment .... 2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rious physical ......................................... 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Threatened, emotional, or physical .......... 2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rious physical ......................................... 5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29240" y="2708280"/>
            <a:ext cx="323064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bb3300"/>
                </a:solidFill>
                <a:uFillTx/>
                <a:latin typeface="Arial"/>
              </a:rPr>
              <a:t>NEW CATEGORY OF  </a:t>
            </a:r>
            <a:endParaRPr b="0" lang="en-US" sz="1800" spc="-1" strike="noStrike">
              <a:solidFill>
                <a:srgbClr val="ffffd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bb3300"/>
                </a:solidFill>
                <a:uFillTx/>
                <a:latin typeface="Arial"/>
              </a:rPr>
              <a:t>INJURY FOR</a:t>
            </a:r>
            <a:endParaRPr b="0" lang="en-US" sz="1800" spc="-1" strike="noStrike">
              <a:solidFill>
                <a:srgbClr val="ffffd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bb3300"/>
                </a:solidFill>
                <a:uFillTx/>
                <a:latin typeface="Arial"/>
              </a:rPr>
              <a:t>CHILD ABUSE CASES</a:t>
            </a:r>
            <a:endParaRPr b="0" lang="en-US" sz="18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5320" y="-61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4</a:t>
            </a:r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19600" y="4538520"/>
            <a:ext cx="0" cy="12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124240" y="3827520"/>
            <a:ext cx="841320" cy="1233360"/>
          </a:xfrm>
          <a:prstGeom prst="line">
            <a:avLst/>
          </a:prstGeom>
          <a:ln w="44280">
            <a:solidFill>
              <a:srgbClr val="bb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0C7F-B359-4883-A846-86A6F846AD1D}" type="slidenum">
              <a:t>33</a:t>
            </a:fld>
          </a:p>
        </p:txBody>
      </p:sp>
    </p:spTree>
  </p:cSld>
  <p:transition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0280" y="-6372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4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231" name=""/>
          <p:cNvSpPr/>
          <p:nvPr/>
        </p:nvSpPr>
        <p:spPr>
          <a:xfrm>
            <a:off x="1501920" y="1671480"/>
            <a:ext cx="6507000" cy="1527480"/>
          </a:xfrm>
          <a:prstGeom prst="rect">
            <a:avLst/>
          </a:prstGeom>
          <a:solidFill>
            <a:srgbClr val="588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>
            <a:normAutofit fontScale="94000"/>
          </a:bodyPr>
          <a:p>
            <a:pPr>
              <a:lnSpc>
                <a:spcPct val="110000"/>
              </a:lnSpc>
              <a:spcBef>
                <a:spcPts val="1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Create a new category of victim injury to account for the recklessness, neglect, or endangerment associated with felony child abuse cases that would score these circum-stances the same as emotional or threatened injury.</a:t>
            </a:r>
            <a:endParaRPr b="0" lang="en-US" sz="1700" spc="-1" strike="noStrike">
              <a:solidFill>
                <a:srgbClr val="ffffdb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39760" y="5718240"/>
            <a:ext cx="768240" cy="96660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DF06D-98B3-4320-A1D2-BA78B9B73817}" type="slidenum">
              <a:t>34</a:t>
            </a:fld>
          </a:p>
        </p:txBody>
      </p:sp>
    </p:spTree>
  </p:cSld>
  <p:transition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24000" y="2065320"/>
            <a:ext cx="6067440" cy="0"/>
          </a:xfrm>
          <a:prstGeom prst="line">
            <a:avLst/>
          </a:prstGeom>
          <a:ln w="12600">
            <a:solidFill>
              <a:srgbClr val="ffff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2130480"/>
            <a:ext cx="528480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5:</a:t>
            </a:r>
            <a:br>
              <a:rPr sz="2400"/>
            </a:b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Other Sexual Assault Worksheet C</a:t>
            </a:r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65080" y="1430280"/>
            <a:ext cx="1909800" cy="240516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</p:spTree>
  </p:cSld>
  <p:transition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0280" y="-19548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Child Pornography &amp; Electronic Solicitation </a:t>
            </a:r>
            <a:br>
              <a:rPr sz="2400"/>
            </a:b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(§ 18.2-374.1 et al.)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237" name=""/>
          <p:cNvSpPr/>
          <p:nvPr/>
        </p:nvSpPr>
        <p:spPr>
          <a:xfrm>
            <a:off x="1014480" y="1095480"/>
            <a:ext cx="71168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Issue</a:t>
            </a:r>
            <a:endParaRPr b="0" lang="en-US" sz="1700" spc="-1" strike="noStrike">
              <a:solidFill>
                <a:srgbClr val="ffffdb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In November 2006, the Commission recommended guidelines for child pornography and electronic (online) solicitation.  The recommendations were not rejected by  the 2007 General Assembly.</a:t>
            </a:r>
            <a:endParaRPr b="0" lang="en-US" sz="1700" spc="-1" strike="noStrike">
              <a:solidFill>
                <a:srgbClr val="ffffdb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However, the 2007 General Assembly also enacted legislation elevating penalties for certain child pornography and online solicitation crimes.  For example, the maximum penalties of 5 and 10 years for some offenses were increased to 30 and 40 years.</a:t>
            </a:r>
            <a:endParaRPr b="0" lang="en-US" sz="1700" spc="-1" strike="noStrike">
              <a:solidFill>
                <a:srgbClr val="ffffdb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The guidelines that became effective on July 1, 2007, were implemented as approved by the General Assembly and, therefore, did not account for the new penalty structures. </a:t>
            </a:r>
            <a:endParaRPr b="0" lang="en-US" sz="1700" spc="-1" strike="noStrike">
              <a:solidFill>
                <a:srgbClr val="ffffdb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587"/>
              </a:spcBef>
              <a:buClr>
                <a:srgbClr val="77d3a7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db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39760" y="5718240"/>
            <a:ext cx="768240" cy="96660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04C3-3365-4F3C-A582-2911716D4F33}" type="slidenum">
              <a:t>36</a:t>
            </a:fld>
          </a:p>
        </p:txBody>
      </p:sp>
    </p:spTree>
  </p:cSld>
  <p:transition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928800"/>
            <a:ext cx="5808600" cy="75135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201760" y="3879720"/>
            <a:ext cx="6502680" cy="2711880"/>
          </a:xfrm>
          <a:prstGeom prst="rect">
            <a:avLst/>
          </a:prstGeom>
          <a:solidFill>
            <a:srgbClr val="ffd175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 Offense Additional Counts</a:t>
            </a:r>
            <a:endParaRPr b="0" lang="en-US" sz="16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imum Penalt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.........................................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........................................ 10</a:t>
            </a:r>
            <a:endParaRPr b="0" lang="en-US" sz="16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........................................ 19</a:t>
            </a:r>
            <a:endParaRPr b="0" lang="en-US" sz="16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30 ........................................ 29</a:t>
            </a:r>
            <a:endParaRPr b="0" lang="en-US" sz="16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40 or more .......................... 39</a:t>
            </a:r>
            <a:endParaRPr b="0" lang="en-US" sz="16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848120"/>
            <a:ext cx="158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 years)</a:t>
            </a:r>
            <a:endParaRPr b="0" lang="en-US" sz="16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38960" y="427824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oints</a:t>
            </a:r>
            <a:endParaRPr b="0" lang="en-US" sz="16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0280" y="-6372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5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9411-1219-4658-9460-47CDA1547002}" type="slidenum">
              <a:t>37</a:t>
            </a:fld>
          </a:p>
        </p:txBody>
      </p:sp>
    </p:spTree>
  </p:cSld>
  <p:transition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0280" y="-6372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5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245" name=""/>
          <p:cNvSpPr/>
          <p:nvPr/>
        </p:nvSpPr>
        <p:spPr>
          <a:xfrm>
            <a:off x="1924200" y="1735200"/>
            <a:ext cx="5491080" cy="1501560"/>
          </a:xfrm>
          <a:prstGeom prst="rect">
            <a:avLst/>
          </a:prstGeom>
          <a:solidFill>
            <a:srgbClr val="588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>
            <a:normAutofit fontScale="91000"/>
          </a:bodyPr>
          <a:p>
            <a:pPr>
              <a:lnSpc>
                <a:spcPct val="110000"/>
              </a:lnSpc>
              <a:spcBef>
                <a:spcPts val="1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Expand the factor for Primary Offense Additional Counts on the Other Sexual Assault guidelines to correspond to the higher penalty structures adopted by the 2007 General Assembly.</a:t>
            </a:r>
            <a:endParaRPr b="0" lang="en-US" sz="1700" spc="-1" strike="noStrike">
              <a:solidFill>
                <a:srgbClr val="ffffdb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39760" y="5718240"/>
            <a:ext cx="768240" cy="96660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8C49-ABEE-4161-BDB1-DA8CE1AB83B9}" type="slidenum">
              <a:t>38</a:t>
            </a:fld>
          </a:p>
        </p:txBody>
      </p:sp>
    </p:spTree>
  </p:cSld>
  <p:transition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BC9A-A64D-49B5-9002-C80766163320}" type="slidenum">
              <a:t>39</a:t>
            </a:fld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5320" y="-637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Felony Vandalism, § 18.2-137(B,ii)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09760" y="1185840"/>
            <a:ext cx="6756480" cy="33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2650"/>
              </a:spcBef>
              <a:buClr>
                <a:srgbClr val="77d3a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Issue</a:t>
            </a:r>
            <a:endParaRPr b="1" lang="en-US" sz="1700" spc="-1" strike="noStrike">
              <a:solidFill>
                <a:srgbClr val="ffffdb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650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Currently, felony vandalism (damage to property of $1,000 or more) under § 18.2-137(B,ii) is not covered by the sentencing guidelines.</a:t>
            </a:r>
            <a:endParaRPr b="0" lang="en-US" sz="1700" spc="-1" strike="noStrike">
              <a:solidFill>
                <a:srgbClr val="ffffdb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650"/>
              </a:spcBef>
              <a:buClr>
                <a:srgbClr val="77d3a7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According to the Pre/Post-Sentence Investigation (PSI) database and the Supreme Court’s Court Automated Information System (CAIS), there were 439 cases of felony vandalism between FY2003 and FY2007.</a:t>
            </a:r>
            <a:endParaRPr b="0" lang="en-US" sz="1700" spc="-1" strike="noStrike">
              <a:solidFill>
                <a:srgbClr val="ffffdb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9760" y="5718240"/>
            <a:ext cx="768240" cy="96660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0800-9C01-4CFD-B125-947717D19A1D}" type="slidenum">
              <a:t>4</a:t>
            </a:fld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5320" y="-6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Felony Vandalism, § 18.2-137(B,ii)</a:t>
            </a:r>
            <a:endParaRPr b="0" i="1" lang="en-US" sz="2400" spc="-1" strike="noStrike">
              <a:solidFill>
                <a:srgbClr val="ffffdb"/>
              </a:solidFill>
              <a:latin typeface="Georgi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9760" y="5718240"/>
            <a:ext cx="768240" cy="966600"/>
          </a:xfrm>
          <a:prstGeom prst="rect">
            <a:avLst/>
          </a:prstGeom>
          <a:ln w="9360">
            <a:solidFill>
              <a:srgbClr val="ffffdb"/>
            </a:solidFill>
            <a:miter/>
          </a:ln>
        </p:spPr>
      </p:pic>
      <p:graphicFrame>
        <p:nvGraphicFramePr>
          <p:cNvPr id="103" name=""/>
          <p:cNvGraphicFramePr/>
          <p:nvPr/>
        </p:nvGraphicFramePr>
        <p:xfrm>
          <a:off x="1938240" y="1830240"/>
          <a:ext cx="5491440" cy="2914560"/>
        </p:xfrm>
        <a:graphic>
          <a:graphicData uri="http://schemas.openxmlformats.org/drawingml/2006/table">
            <a:tbl>
              <a:tblPr/>
              <a:tblGrid>
                <a:gridCol w="2379600"/>
                <a:gridCol w="1473480"/>
                <a:gridCol w="1638360"/>
              </a:tblGrid>
              <a:tr h="665280"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Disposition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182880" marR="90000">
                    <a:lnL w="1368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1368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solidFill>
                      <a:srgbClr val="588e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Percent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1368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solidFill>
                      <a:srgbClr val="588e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Median Sentence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13680">
                      <a:solidFill>
                        <a:srgbClr val="ffffdb"/>
                      </a:solidFill>
                    </a:lnR>
                    <a:lnT w="1368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solidFill>
                      <a:srgbClr val="588e73"/>
                    </a:solidFill>
                  </a:tcPr>
                </a:tc>
              </a:tr>
              <a:tr h="657000"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No Incarceration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182880" marR="90000">
                    <a:lnL w="1368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41.5%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1368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Incarceration 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Up to 6 Months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182880" marR="90000">
                    <a:lnL w="1368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31.2%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3 Months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1368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5760">
                      <a:solidFill>
                        <a:srgbClr val="ffffd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Incarceration 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More than 6 Months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182880" marR="90000">
                    <a:lnL w="1368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1368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27.3%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576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13680">
                      <a:solidFill>
                        <a:srgbClr val="ffffd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5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db"/>
                          </a:solidFill>
                          <a:latin typeface="Arial"/>
                        </a:rPr>
                        <a:t>1.3 Years</a:t>
                      </a:r>
                      <a:endParaRPr b="0" lang="en-US" sz="1700" spc="-1" strike="noStrike">
                        <a:solidFill>
                          <a:srgbClr val="ffffd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db"/>
                      </a:solidFill>
                    </a:lnL>
                    <a:lnR w="13680">
                      <a:solidFill>
                        <a:srgbClr val="ffffdb"/>
                      </a:solidFill>
                    </a:lnR>
                    <a:lnT w="5760">
                      <a:solidFill>
                        <a:srgbClr val="ffffdb"/>
                      </a:solidFill>
                    </a:lnT>
                    <a:lnB w="13680">
                      <a:solidFill>
                        <a:srgbClr val="ffffd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2045520" y="1285920"/>
            <a:ext cx="3114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db"/>
                </a:solidFill>
                <a:latin typeface="Arial"/>
              </a:rPr>
              <a:t>FY2003 - FY2007 (439 cases)</a:t>
            </a:r>
            <a:endParaRPr b="0" lang="en-US" sz="17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16DD-CB2F-41A9-A077-4039D845D223}" type="slidenum">
              <a:t>5</a:t>
            </a:fld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25320" y="-6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1 – Section A</a:t>
            </a:r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737" r="0" b="64396"/>
          <a:stretch/>
        </p:blipFill>
        <p:spPr>
          <a:xfrm>
            <a:off x="839880" y="878040"/>
            <a:ext cx="7772400" cy="340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0" t="33792" r="0" b="54148"/>
          <a:stretch/>
        </p:blipFill>
        <p:spPr>
          <a:xfrm>
            <a:off x="839880" y="4711680"/>
            <a:ext cx="7772400" cy="1212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0" t="0" r="0" b="95424"/>
          <a:stretch/>
        </p:blipFill>
        <p:spPr>
          <a:xfrm>
            <a:off x="839880" y="4262400"/>
            <a:ext cx="7772400" cy="460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5520" y="3967200"/>
            <a:ext cx="8534160" cy="849600"/>
          </a:xfrm>
          <a:prstGeom prst="rect">
            <a:avLst/>
          </a:prstGeom>
          <a:solidFill>
            <a:srgbClr val="ffd175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8002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db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M.  Damage/destroy any property or monument&gt;=$1000 (1 count) ...........................  2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CF062-0DB7-46E5-97DA-AA4DD4AA8CF6}" type="slidenum">
              <a:t>6</a:t>
            </a:fld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25320" y="-6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1 – Section A</a:t>
            </a:r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44749" r="0" b="3455"/>
          <a:stretch/>
        </p:blipFill>
        <p:spPr>
          <a:xfrm>
            <a:off x="839880" y="982800"/>
            <a:ext cx="7772400" cy="5207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5120" y="1755720"/>
            <a:ext cx="8683920" cy="2154240"/>
          </a:xfrm>
          <a:prstGeom prst="rect">
            <a:avLst/>
          </a:prstGeom>
          <a:solidFill>
            <a:srgbClr val="ffd175"/>
          </a:solidFill>
          <a:ln w="9360">
            <a:solidFill>
              <a:srgbClr val="4d4d4d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egally Restrained at Time of Offense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ry offense other than felony vandalism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Primary offense felony vandalism-</a:t>
            </a:r>
            <a:endParaRPr b="0" lang="en-US" sz="14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amage to property $1,000 or more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 u="sng">
                <a:solidFill>
                  <a:srgbClr val="0066cc"/>
                </a:solidFill>
                <a:uFillTx/>
                <a:latin typeface="Arial"/>
              </a:rPr>
              <a:t>Damage to property $1,000 or more </a:t>
            </a:r>
            <a:endParaRPr b="0" lang="en-US" sz="14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e ………………….…………………………... 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Any legal restrai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………………… 1</a:t>
            </a:r>
            <a:endParaRPr b="0" lang="en-US" sz="14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than post-incarceration supervision ..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-Incarceration supervision ……………… 5</a:t>
            </a:r>
            <a:endParaRPr b="0" lang="en-US" sz="14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33800" y="24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4600" y="4065480"/>
            <a:ext cx="8683560" cy="2319480"/>
          </a:xfrm>
          <a:prstGeom prst="rect">
            <a:avLst/>
          </a:prstGeom>
          <a:solidFill>
            <a:srgbClr val="ffd175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d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66cc"/>
                </a:solidFill>
                <a:uFillTx/>
                <a:latin typeface="Arial"/>
              </a:rPr>
              <a:t>SCORE THE FOLLOWING FACTOR ONLY IF PRIMARY OFFENSE IS FELONY VANDALISM</a:t>
            </a:r>
            <a:endParaRPr b="0" lang="en-US" sz="1400" spc="-1" strike="noStrike">
              <a:solidFill>
                <a:srgbClr val="ffffd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        </a:t>
            </a:r>
            <a:r>
              <a:rPr b="1" lang="en-US" sz="1400" spc="-1" strike="noStrike" u="sng">
                <a:solidFill>
                  <a:srgbClr val="0066cc"/>
                </a:solidFill>
                <a:uFillTx/>
                <a:latin typeface="Arial"/>
              </a:rPr>
              <a:t>DAMAGE TO PROPERTY $1,000 OR MORE </a:t>
            </a:r>
            <a:endParaRPr b="0" lang="en-US" sz="14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66cc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d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0066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Prior Vandalism Convictions/Adjudications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Misdemeanor vandalism ........................................................................... 1 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Felony vandalism</a:t>
            </a: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...…………...................................................................... 2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Both felony and misdemeanor vandalism ............................................... 3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66cc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B0C4-94A0-4BDD-A4C0-A3CC0FB76B76}" type="slidenum">
              <a:t>7</a:t>
            </a:fld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25320" y="-6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1 – Section B</a:t>
            </a:r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1579" r="0" b="64379"/>
          <a:stretch/>
        </p:blipFill>
        <p:spPr>
          <a:xfrm>
            <a:off x="844560" y="871560"/>
            <a:ext cx="7772400" cy="3422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33652" r="0" b="52662"/>
          <a:stretch/>
        </p:blipFill>
        <p:spPr>
          <a:xfrm>
            <a:off x="849240" y="4664160"/>
            <a:ext cx="7772400" cy="1376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0" t="0" r="0" b="95424"/>
          <a:stretch/>
        </p:blipFill>
        <p:spPr>
          <a:xfrm>
            <a:off x="839880" y="4262400"/>
            <a:ext cx="7772400" cy="460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10960" y="2470320"/>
            <a:ext cx="8683920" cy="595080"/>
          </a:xfrm>
          <a:prstGeom prst="rect">
            <a:avLst/>
          </a:prstGeom>
          <a:solidFill>
            <a:srgbClr val="ffd175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9144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db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M.  Damage/destroy any property or monument&gt;=$1000 (1 count) ...........................  8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81080" y="3484440"/>
            <a:ext cx="8683560" cy="2791080"/>
            <a:chOff x="181080" y="3484440"/>
            <a:chExt cx="8683560" cy="2791080"/>
          </a:xfrm>
        </p:grpSpPr>
        <p:sp>
          <p:nvSpPr>
            <p:cNvPr id="121" name=""/>
            <p:cNvSpPr/>
            <p:nvPr/>
          </p:nvSpPr>
          <p:spPr>
            <a:xfrm>
              <a:off x="181080" y="3484440"/>
              <a:ext cx="8683560" cy="2791080"/>
            </a:xfrm>
            <a:prstGeom prst="rect">
              <a:avLst/>
            </a:prstGeom>
            <a:solidFill>
              <a:srgbClr val="ffd175"/>
            </a:solidFill>
            <a:ln w="936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d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buClr>
                  <a:srgbClr val="00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imary Offense Additional Counts</a:t>
              </a:r>
              <a:endParaRPr b="0" lang="en-US" sz="1500" spc="-1" strike="noStrike">
                <a:solidFill>
                  <a:srgbClr val="ffffd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d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 offense other than felony vandalism-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400" spc="-1" strike="noStrike">
                  <a:solidFill>
                    <a:srgbClr val="0066cc"/>
                  </a:solidFill>
                  <a:latin typeface="Arial"/>
                </a:rPr>
                <a:t>Primary offense felony vandalism-</a:t>
              </a:r>
              <a:endParaRPr b="0" lang="en-US" sz="1400" spc="-1" strike="noStrike">
                <a:solidFill>
                  <a:srgbClr val="ffffdb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Damage to property $1,000 or mor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400" spc="-1" strike="noStrike" u="sng">
                  <a:solidFill>
                    <a:srgbClr val="0066cc"/>
                  </a:solidFill>
                  <a:uFillTx/>
                  <a:latin typeface="Arial"/>
                </a:rPr>
                <a:t>Damage to property $1,000 or more </a:t>
              </a:r>
              <a:endParaRPr b="0" lang="en-US" sz="1400" spc="-1" strike="noStrike">
                <a:solidFill>
                  <a:srgbClr val="ffffd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ffffd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d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5 - 9 ...................................... 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400" spc="-1" strike="noStrike">
                  <a:solidFill>
                    <a:srgbClr val="ffffdb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66cc"/>
                  </a:solidFill>
                  <a:latin typeface="Arial"/>
                </a:rPr>
                <a:t>Years</a:t>
              </a:r>
              <a:r>
                <a:rPr b="1" lang="en-US" sz="1400" spc="-1" strike="noStrike">
                  <a:solidFill>
                    <a:srgbClr val="0066cc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66cc"/>
                  </a:solidFill>
                  <a:latin typeface="Arial"/>
                </a:rPr>
                <a:t> 5 - 9 ....................................... 1</a:t>
              </a:r>
              <a:endParaRPr b="0" lang="en-US" sz="1400" spc="-1" strike="noStrike">
                <a:solidFill>
                  <a:srgbClr val="ffffd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 - 19 …................................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66cc"/>
                  </a:solidFill>
                  <a:latin typeface="Arial"/>
                </a:rPr>
                <a:t>10 - 19 …................................</a:t>
              </a:r>
              <a:r>
                <a:rPr b="1" lang="en-US" sz="8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66cc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d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 - 29 ................................... 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66cc"/>
                  </a:solidFill>
                  <a:latin typeface="Arial"/>
                </a:rPr>
                <a:t>20 - 29 ................................... 3</a:t>
              </a:r>
              <a:endParaRPr b="0" lang="en-US" sz="1400" spc="-1" strike="noStrike">
                <a:solidFill>
                  <a:srgbClr val="ffffd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 - 39 ................................... 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66cc"/>
                  </a:solidFill>
                  <a:latin typeface="Arial"/>
                </a:rPr>
                <a:t>30 - 39 ................................... 4</a:t>
              </a:r>
              <a:endParaRPr b="0" lang="en-US" sz="1400" spc="-1" strike="noStrike">
                <a:solidFill>
                  <a:srgbClr val="ffffd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 or more ............................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66cc"/>
                  </a:solidFill>
                  <a:latin typeface="Arial"/>
                </a:rPr>
                <a:t>40 or more ............................ 5</a:t>
              </a:r>
              <a:endParaRPr b="0" lang="en-US" sz="1400" spc="-1" strike="noStrike">
                <a:solidFill>
                  <a:srgbClr val="ffffd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db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75040" y="42372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db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45D6-B784-4DC6-AE43-5944F1CF7182}" type="slidenum">
              <a:t>8</a:t>
            </a:fld>
          </a:p>
        </p:txBody>
      </p:sp>
    </p:spTree>
  </p:cSld>
  <p:transition>
    <p:circl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25320" y="-6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db"/>
                </a:solidFill>
                <a:latin typeface="Georgia"/>
              </a:rPr>
              <a:t>Proposed Recommendation 1 – Section B</a:t>
            </a:r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45637" r="0" b="12952"/>
          <a:stretch/>
        </p:blipFill>
        <p:spPr>
          <a:xfrm>
            <a:off x="839880" y="1046160"/>
            <a:ext cx="7772400" cy="4164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4600" y="4408560"/>
            <a:ext cx="8683560" cy="1454040"/>
          </a:xfrm>
          <a:prstGeom prst="rect">
            <a:avLst/>
          </a:prstGeom>
          <a:solidFill>
            <a:srgbClr val="ffd175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d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66cc"/>
                </a:solidFill>
                <a:uFillTx/>
                <a:latin typeface="Arial"/>
              </a:rPr>
              <a:t>SCORE THE FOLLOWING FACTOR ONLY IF PRIMARY OFFENSE IS FELONY VANDALISM</a:t>
            </a:r>
            <a:endParaRPr b="0" lang="en-US" sz="1400" spc="-1" strike="noStrike">
              <a:solidFill>
                <a:srgbClr val="ffffd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        </a:t>
            </a:r>
            <a:r>
              <a:rPr b="1" lang="en-US" sz="1400" spc="-1" strike="noStrike" u="sng">
                <a:solidFill>
                  <a:srgbClr val="0066cc"/>
                </a:solidFill>
                <a:uFillTx/>
                <a:latin typeface="Arial"/>
              </a:rPr>
              <a:t>DAMAGE TO PROPERTY $1,000 OR MORE </a:t>
            </a:r>
            <a:endParaRPr b="0" lang="en-US" sz="14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d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0066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Prior Incarceration </a:t>
            </a: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66cc"/>
                </a:solidFill>
                <a:latin typeface="Arial"/>
              </a:rPr>
              <a:t>IF YES, add 1</a:t>
            </a: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d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66cc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73440" y="5513400"/>
            <a:ext cx="3838320" cy="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56720" y="5510160"/>
            <a:ext cx="457200" cy="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d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3A37-5F38-4E63-8F2C-9A6E7DD2B8F9}" type="slidenum">
              <a:t>9</a:t>
            </a:fld>
          </a:p>
        </p:txBody>
      </p:sp>
    </p:spTree>
  </p:cSld>
  <p:transition>
    <p:circl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6:13:43Z</dcterms:created>
  <dc:creator>VCSC</dc:creator>
  <dc:description/>
  <dc:language>en-US</dc:language>
  <cp:lastModifiedBy>JFridley</cp:lastModifiedBy>
  <dcterms:modified xsi:type="dcterms:W3CDTF">2008-11-10T14:06:19Z</dcterms:modified>
  <cp:revision>1962</cp:revision>
  <dc:subject/>
  <dc:title>PowerPoint Presentation</dc:title>
</cp:coreProperties>
</file>