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837-851D-422B-9DE9-BA113D9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925-CF23-498A-AC33-7DB7746F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51C-528F-4C8B-B925-1F61598C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9A2-B77D-4ADB-BAA5-B39DA55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B53-0AB3-443D-8237-40E39AA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805-1CBE-4016-B790-221332C5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778-943C-4E22-9008-6687D77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480-4C77-4041-B150-B7B41DE2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AAF-E828-4C63-849F-2718582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792-848F-4622-B198-A965FC3C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E53-DF63-4B5D-AEF5-5403241D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801-9820-4DDE-8079-3544DC0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BFF-3480-4176-92F8-0DF39979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E17C-F99D-4819-B613-C5351C5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1E5-75F6-48BE-AC5E-38BE839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40B5-C51F-49A0-9B71-950D2CE3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EA03-1531-4DD8-B207-C604D5E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3D09-1CB2-4B7F-9E10-B04D03F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679-AC7C-47AC-8923-4E207A3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AF3-4B79-41CE-B70C-60D2F2B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5170-453E-4C15-8E22-74A76D2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FA5-56E7-4E68-BC1B-F44253B6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F82E-9312-4B0D-A290-FFEDF762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19AB-2DA9-438A-ACDC-7680C614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Imprint MT Shadow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Imprint MT Shadow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26F-B8ED-4E42-94E1-43DF57CF7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BBE-454E-4FC8-9361-D420DABC0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endParaRPr b="0" lang="en-US" sz="60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Sentencing Revocation Reports 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&amp; Probation Violation Guidelines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95760" y="657360"/>
            <a:ext cx="4633920" cy="5895720"/>
          </a:xfrm>
          <a:prstGeom prst="rect">
            <a:avLst/>
          </a:prstGeom>
          <a:ln w="25560">
            <a:solidFill>
              <a:srgbClr val="333333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55627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Y2008 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28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Y2006-FY2007 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647640"/>
            <a:ext cx="4646520" cy="5905440"/>
          </a:xfrm>
          <a:prstGeom prst="rect">
            <a:avLst/>
          </a:prstGeom>
          <a:ln w="25560">
            <a:solidFill>
              <a:srgbClr val="333333"/>
            </a:solidFill>
            <a:miter/>
          </a:ln>
        </p:spPr>
      </p:pic>
      <p:grpSp>
        <p:nvGrpSpPr>
          <p:cNvPr id="242" name=""/>
          <p:cNvGrpSpPr/>
          <p:nvPr/>
        </p:nvGrpSpPr>
        <p:grpSpPr>
          <a:xfrm>
            <a:off x="5029200" y="1333080"/>
            <a:ext cx="2819520" cy="666000"/>
            <a:chOff x="5029200" y="1333080"/>
            <a:chExt cx="2819520" cy="666000"/>
          </a:xfrm>
        </p:grpSpPr>
        <p:sp>
          <p:nvSpPr>
            <p:cNvPr id="243" name=""/>
            <p:cNvSpPr/>
            <p:nvPr/>
          </p:nvSpPr>
          <p:spPr>
            <a:xfrm>
              <a:off x="5029200" y="1600200"/>
              <a:ext cx="2819520" cy="398880"/>
            </a:xfrm>
            <a:prstGeom prst="rect">
              <a:avLst/>
            </a:prstGeom>
            <a:gradFill rotWithShape="0">
              <a:gsLst>
                <a:gs pos="0">
                  <a:srgbClr val="91bcfe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w factors were add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791320" y="1333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724280" y="2438280"/>
            <a:ext cx="3505320" cy="856080"/>
            <a:chOff x="4724280" y="2438280"/>
            <a:chExt cx="3505320" cy="856080"/>
          </a:xfrm>
        </p:grpSpPr>
        <p:sp>
          <p:nvSpPr>
            <p:cNvPr id="246" name=""/>
            <p:cNvSpPr/>
            <p:nvPr/>
          </p:nvSpPr>
          <p:spPr>
            <a:xfrm>
              <a:off x="4724280" y="2895480"/>
              <a:ext cx="3505320" cy="398880"/>
            </a:xfrm>
            <a:prstGeom prst="rect">
              <a:avLst/>
            </a:prstGeom>
            <a:gradFill rotWithShape="0">
              <a:gsLst>
                <a:gs pos="0">
                  <a:srgbClr val="b1cffe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isting factors were adjus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867280" y="24382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952880" y="3953880"/>
            <a:ext cx="3403440" cy="483480"/>
            <a:chOff x="4952880" y="3953880"/>
            <a:chExt cx="3403440" cy="483480"/>
          </a:xfrm>
        </p:grpSpPr>
        <p:sp>
          <p:nvSpPr>
            <p:cNvPr id="249" name=""/>
            <p:cNvSpPr/>
            <p:nvPr/>
          </p:nvSpPr>
          <p:spPr>
            <a:xfrm>
              <a:off x="4952880" y="4038480"/>
              <a:ext cx="3200400" cy="398880"/>
            </a:xfrm>
            <a:prstGeom prst="rect">
              <a:avLst/>
            </a:prstGeom>
            <a:gradFill rotWithShape="0">
              <a:gsLst>
                <a:gs pos="0">
                  <a:srgbClr val="b1cffe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 values were increas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103240" y="3953880"/>
              <a:ext cx="25308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5 – FY2008</a:t>
            </a: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mpliance and Direction of Departures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4,6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1660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5,5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4,8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5,0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3080" y="180324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69080" y="180324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25560" y="1722600"/>
          <a:ext cx="9144000" cy="491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560" y="1722600"/>
                    <a:ext cx="9144000" cy="49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6743880" y="3683160"/>
            <a:ext cx="914400" cy="76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Dispositional Compliance and Direction of Departures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5181480"/>
            <a:ext cx="1130400" cy="1191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7eb1fe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n  Jail Sentence   6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6920" y="5181480"/>
            <a:ext cx="1143000" cy="1191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7eb1fe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n Prison Sentence   18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5800" y="1828800"/>
          <a:ext cx="7743960" cy="3344760"/>
        </p:xfrm>
        <a:graphic>
          <a:graphicData uri="http://schemas.openxmlformats.org/drawingml/2006/table">
            <a:tbl>
              <a:tblPr/>
              <a:tblGrid>
                <a:gridCol w="2502000"/>
                <a:gridCol w="1693800"/>
                <a:gridCol w="1773360"/>
                <a:gridCol w="1774800"/>
              </a:tblGrid>
              <a:tr h="461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COMMENDED DIS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TUAL DIS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b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ail &lt;= 12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son &gt;= 1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b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eeb1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ail &lt;= 12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eeb1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son &gt;= 1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eeb1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e9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-152280" y="1752480"/>
          <a:ext cx="9905760" cy="402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752480"/>
                    <a:ext cx="990576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Durational Compliance and Direction of Departures*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601992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*Includes cases recommended for jail or prison incarceration on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286000"/>
            <a:ext cx="21337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ve high end of range by median of 9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4495680"/>
            <a:ext cx="2209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low end of range by median of 6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191120"/>
            <a:ext cx="144756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 from 49.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FY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Most Frequently Cited Departure Reasons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952640"/>
            <a:ext cx="4230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itigation (24.7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63 of 1,251 have written departure rea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frequently ci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ernative sa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ug Trea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ntion/Di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dicial discre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 served suffic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ng time in another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ess in rehabilit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ea 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ender’s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ance abuse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77880" y="1952640"/>
            <a:ext cx="4232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ggravation (21.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79 of 1,095 have written departure rea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frequently ci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subsequent rev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or rehabilitation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il to follow instruc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eds rehab through jail/pr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stance abuse issu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conded from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2057400"/>
            <a:ext cx="0" cy="4114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Probation Violation Guidelines Compliance by Most Serious Original Offense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-914400" y="1544760"/>
          <a:ext cx="10667880" cy="531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1544760"/>
                    <a:ext cx="1066788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mpliance by Most Serious Original Offense Type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096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,0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2416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,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9464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8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6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2971800"/>
            <a:ext cx="1066680" cy="685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Compliance by Most Serious Original Person Crime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8600" y="1498680"/>
          <a:ext cx="8153280" cy="4344840"/>
        </p:xfrm>
        <a:graphic>
          <a:graphicData uri="http://schemas.openxmlformats.org/drawingml/2006/table">
            <a:tbl>
              <a:tblPr/>
              <a:tblGrid>
                <a:gridCol w="2970360"/>
                <a:gridCol w="1525320"/>
                <a:gridCol w="1371600"/>
                <a:gridCol w="1371600"/>
                <a:gridCol w="914400"/>
              </a:tblGrid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st Serious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iginal Person Cr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li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itig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grav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s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mi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idn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r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Sexual Ass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bb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x Offender Regis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a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Person Cr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Most Frequently Cited Mitigating Departure Reason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 Most Serious Original Offense – PERSON 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al circumstances of vio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icial discr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ng time for another of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tenced to time 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 in rehabil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tenced to alternative sa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nder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Compliance by Most Serious Original Person Crime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523880"/>
          <a:ext cx="8229600" cy="4525920"/>
        </p:xfrm>
        <a:graphic>
          <a:graphicData uri="http://schemas.openxmlformats.org/drawingml/2006/table">
            <a:tbl>
              <a:tblPr/>
              <a:tblGrid>
                <a:gridCol w="2997360"/>
                <a:gridCol w="1539720"/>
                <a:gridCol w="1386000"/>
                <a:gridCol w="1384200"/>
                <a:gridCol w="922320"/>
              </a:tblGrid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st Serious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iginal Person Cr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li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itig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grav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s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mi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idn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r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Sexual Ass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bb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x Offender Regis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ap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Person Cr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600200"/>
            <a:ext cx="36576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ecff"/>
                </a:solidFill>
                <a:uFillTx/>
                <a:latin typeface="Times New Roman"/>
              </a:rPr>
              <a:t>Sentencing Revocation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r all felony violation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ob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ood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uspended Sen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ecff"/>
                </a:solidFill>
                <a:uFillTx/>
                <a:latin typeface="Times New Roman"/>
              </a:rPr>
              <a:t>FY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11,631 revocations (including probation, good behavior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18080" y="0"/>
            <a:ext cx="5476680" cy="7086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erious original offe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e (Forcible rape/sodomy, object sexual penetr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 to register as sex off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frequently cited aggravating departure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rehabilitation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subsequent rev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 to follow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ousness of original of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olate sex offender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 Compliance by Most Serious Original Offense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117440" y="0"/>
            <a:ext cx="8026560" cy="10515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260440" y="1219320"/>
            <a:ext cx="5257800" cy="337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parers are scoring Sex Offender Registry as “Perso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18240" y="1523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57480" y="2235240"/>
            <a:ext cx="6553080" cy="337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der current offense type definitions, Sex Offender Registry is “Other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556400" y="2082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743200"/>
            <a:ext cx="7086600" cy="245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SUES TO ADDR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r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ying Sex Offender Registry cr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 vs.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nalysis of Probation Violation Guide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e or Sex Offender Registry Original Off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3048120"/>
            <a:ext cx="304560" cy="609480"/>
          </a:xfrm>
          <a:prstGeom prst="ellipse">
            <a:avLst/>
          </a:prstGeom>
          <a:noFill/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6498" t="0" r="4942" b="13106"/>
          <a:stretch/>
        </p:blipFill>
        <p:spPr>
          <a:xfrm>
            <a:off x="-65160" y="825480"/>
            <a:ext cx="4635720" cy="588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2"/>
          <a:srcRect l="3242" t="0" r="7568" b="13249"/>
          <a:stretch/>
        </p:blipFill>
        <p:spPr>
          <a:xfrm>
            <a:off x="4583160" y="825480"/>
            <a:ext cx="4676760" cy="588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OFFENSE TYPE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rint MT Shadow"/>
              </a:rPr>
              <a:t>Appendix E of the Probation Violation Guidelines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447920"/>
            <a:ext cx="8077320" cy="1465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son Cr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generally defined as a crime where the victim is harassed, abducted, injured, killed, sexually assaulted, or is the subject of a sex offense.  Threats, conspiracies, attempts, and the intent to do the above are included.  Offenses in which the offender takes property directly from the victim (in person) or entices a minor to participate in sexually explicit material are categorized as per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 21-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2971800"/>
            <a:ext cx="6248520" cy="342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mes in which “society” is the victi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typically classified as “Pers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lying sex offense = “Person” 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fense categories u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tion Violation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tencing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-Sentence Investigation Report (DO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117440" y="0"/>
            <a:ext cx="8026560" cy="10515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2260440" y="1219320"/>
            <a:ext cx="5257800" cy="337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parers are scoring Sex Offender Registry as “Perso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18240" y="1523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7480" y="2235240"/>
            <a:ext cx="6553080" cy="337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der current offense type definitions, Sex Offender Registry is “Other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556400" y="2082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2743200"/>
            <a:ext cx="7086600" cy="245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SUES TO ADDR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r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ying Sex Offender Registry cr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 vs.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nalysis of Probation Violation Guide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e or Sex Offender Registry Original Off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4267080"/>
            <a:ext cx="304560" cy="609840"/>
          </a:xfrm>
          <a:prstGeom prst="ellipse">
            <a:avLst/>
          </a:prstGeom>
          <a:noFill/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-914400" y="1544760"/>
          <a:ext cx="10667880" cy="531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1544760"/>
                    <a:ext cx="1066788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mpliance by Most Serious Original Offense Type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096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,0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2416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2,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94640" y="1676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8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1676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 = 6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819520"/>
            <a:ext cx="1067040" cy="685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tenced to alternative sa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ndant has spent/will spend time in drug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ntion/Di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icial discr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ng time in another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tenced to time 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 in rehabil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nder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 abuse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 of Commonwealth Attor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Most Frequently Cited Mitigating Departure Reason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Most Serious Original Offense – DRUG 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Probation Violation Guidelines Compliance with Factors Scoring a New Arrest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FY2008 Probation Violation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639720"/>
            <a:ext cx="4586400" cy="5896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618080" y="639720"/>
            <a:ext cx="4500360" cy="5896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  <p:sp>
        <p:nvSpPr>
          <p:cNvPr id="347" name=""/>
          <p:cNvSpPr/>
          <p:nvPr/>
        </p:nvSpPr>
        <p:spPr>
          <a:xfrm>
            <a:off x="0" y="2895480"/>
            <a:ext cx="4572000" cy="60984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2362320"/>
            <a:ext cx="4495680" cy="60948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2971800"/>
            <a:ext cx="4495680" cy="60948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2057400"/>
            <a:ext cx="26668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ECTI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lony Arrests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1506600"/>
            <a:ext cx="41911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ECTION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th Felony &amp; Misdemeanor Arr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% of technical violators have a new arrest scored on Section A o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n sentence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arrest scored = 1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w arrest scored =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er average sentence when defendant has new arrest during current supervision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6840" y="109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mpliance with Factors Scoring New Arrest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-457200" y="1488960"/>
          <a:ext cx="9982080" cy="536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1488960"/>
                    <a:ext cx="998208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mpliance with Factors Scoring New Arrest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59" name=""/>
          <p:cNvSpPr/>
          <p:nvPr/>
        </p:nvSpPr>
        <p:spPr>
          <a:xfrm>
            <a:off x="190440" y="3429000"/>
            <a:ext cx="180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dian 6 months below r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86600" y="327672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dian 12 months below r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-38160"/>
            <a:ext cx="5626080" cy="6896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228600"/>
            <a:ext cx="3657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Y2006 – FY200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ntencing Revocation Reports (SRRs) by Judicial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4240" y="304920"/>
            <a:ext cx="5575320" cy="17280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4240" y="901800"/>
            <a:ext cx="5575320" cy="18252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4240" y="2679840"/>
            <a:ext cx="5575320" cy="17280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4240" y="3873600"/>
            <a:ext cx="5575320" cy="18252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160" y="1447920"/>
            <a:ext cx="3505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676520"/>
            <a:ext cx="3505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est Number Received FY06-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rfolk (Circuit 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sapeake (Circuit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chmond (Circuit 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irfax (Circuit 1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endParaRPr b="0" lang="en-US" sz="4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Technical Violations 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vs. 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rint MT Shadow"/>
              </a:rPr>
              <a:t>New Law Violations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16000" y="1447920"/>
            <a:ext cx="8229600" cy="4308120"/>
            <a:chOff x="216000" y="1447920"/>
            <a:chExt cx="8229600" cy="4308120"/>
          </a:xfrm>
        </p:grpSpPr>
        <p:cxnSp>
          <p:nvCxnSpPr>
            <p:cNvPr id="366" name="_s203781"/>
            <p:cNvCxnSpPr>
              <a:stCxn id="367" idx="1"/>
              <a:endCxn id="368" idx="2"/>
            </p:cNvCxnSpPr>
            <p:nvPr/>
          </p:nvCxnSpPr>
          <p:spPr>
            <a:xfrm rot="10800000">
              <a:off x="5057640" y="2229480"/>
              <a:ext cx="48312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9" name="_s203782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4013280" y="3928680"/>
              <a:ext cx="393480" cy="169632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2" name="_s203783"/>
            <p:cNvCxnSpPr>
              <a:stCxn id="373" idx="0"/>
              <a:endCxn id="371" idx="2"/>
            </p:cNvCxnSpPr>
            <p:nvPr/>
          </p:nvCxnSpPr>
          <p:spPr>
            <a:xfrm flipH="1" flipV="1" rot="5400000">
              <a:off x="2318760" y="3929760"/>
              <a:ext cx="393480" cy="169488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4" name="_s203784"/>
            <p:cNvCxnSpPr>
              <a:stCxn id="375" idx="3"/>
              <a:endCxn id="368" idx="2"/>
            </p:cNvCxnSpPr>
            <p:nvPr/>
          </p:nvCxnSpPr>
          <p:spPr>
            <a:xfrm flipV="1">
              <a:off x="4571280" y="2229840"/>
              <a:ext cx="48708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6" name="_s203785"/>
            <p:cNvCxnSpPr>
              <a:stCxn id="377" idx="0"/>
              <a:endCxn id="368" idx="2"/>
            </p:cNvCxnSpPr>
            <p:nvPr/>
          </p:nvCxnSpPr>
          <p:spPr>
            <a:xfrm flipV="1" rot="16200000">
              <a:off x="5121000" y="2166120"/>
              <a:ext cx="1567080" cy="169344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8" name="_s203786"/>
            <p:cNvCxnSpPr>
              <a:stCxn id="371" idx="0"/>
              <a:endCxn id="368" idx="2"/>
            </p:cNvCxnSpPr>
            <p:nvPr/>
          </p:nvCxnSpPr>
          <p:spPr>
            <a:xfrm flipH="1" flipV="1" rot="5400000">
              <a:off x="3426840" y="2165040"/>
              <a:ext cx="1567080" cy="169632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8" name="_s203787"/>
            <p:cNvSpPr/>
            <p:nvPr/>
          </p:nvSpPr>
          <p:spPr>
            <a:xfrm>
              <a:off x="3604680" y="144792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1c4fe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1,631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OTAL SENTENCING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VOCATION REPORT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203788"/>
            <p:cNvSpPr/>
            <p:nvPr/>
          </p:nvSpPr>
          <p:spPr>
            <a:xfrm>
              <a:off x="1910520" y="37976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,226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ECHNICAL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203789"/>
            <p:cNvSpPr/>
            <p:nvPr/>
          </p:nvSpPr>
          <p:spPr>
            <a:xfrm>
              <a:off x="5298840" y="3797640"/>
              <a:ext cx="2904480" cy="78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1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NEW LAW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203790"/>
            <p:cNvSpPr/>
            <p:nvPr/>
          </p:nvSpPr>
          <p:spPr>
            <a:xfrm>
              <a:off x="1668240" y="262296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e4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issing Condi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203791"/>
            <p:cNvSpPr/>
            <p:nvPr/>
          </p:nvSpPr>
          <p:spPr>
            <a:xfrm>
              <a:off x="21600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067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203792"/>
            <p:cNvSpPr/>
            <p:nvPr/>
          </p:nvSpPr>
          <p:spPr>
            <a:xfrm>
              <a:off x="360468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,159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*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_s203793"/>
            <p:cNvSpPr/>
            <p:nvPr/>
          </p:nvSpPr>
          <p:spPr>
            <a:xfrm>
              <a:off x="5541120" y="2622960"/>
              <a:ext cx="2904480" cy="78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9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 Violatio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3 also missing conditions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Sentencing Revocation Reports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934240"/>
            <a:ext cx="8115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*Cases are not included in compliance analysis if the guidelines do not apply (the case involves a parole-eligible offense, first offender violation, misdemeanor original offense, or the offender was not on supervised probation), if the guidelines forms were incomplete, or if outdated forms were prepar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3733920"/>
            <a:ext cx="1752840" cy="990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3733920"/>
            <a:ext cx="1752480" cy="990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1998 - 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Technical vs. New Law Violations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1676520"/>
          <a:ext cx="8458200" cy="454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4582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Sentencing Revocation Report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Type of New Law Violation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(n=5,150)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04920" y="1981080"/>
          <a:ext cx="9144000" cy="427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81080"/>
                    <a:ext cx="914400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52280" y="1600200"/>
          <a:ext cx="91440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00200"/>
                    <a:ext cx="91440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Sentencing Revocation Reports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Disposition Received by Type of Violation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b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3772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3962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524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38354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6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13280" y="3886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6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19240" y="4191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6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19240" y="304812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24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013280" y="2717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24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27050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edian 18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-25560"/>
            <a:ext cx="5626080" cy="6883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228600"/>
            <a:ext cx="3657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Y2006 – FY200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ntencing Revocation Reports (SRRs) by Judicial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60" y="1447920"/>
            <a:ext cx="3505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350532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est Number Received FY06-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rfolk (Circuit 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sapeake (Circuit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chmond (Circuit 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irfax (Circuit 19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argest increase from FY07 to FY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 Area (Circuit 30)   +19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chmond (Circuit 13) +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mpton (Circuit 8)     +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4240" y="6045120"/>
            <a:ext cx="5575320" cy="182520"/>
          </a:xfrm>
          <a:prstGeom prst="rect">
            <a:avLst/>
          </a:prstGeom>
          <a:solidFill>
            <a:srgbClr val="ff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94240" y="2679840"/>
            <a:ext cx="5575320" cy="182520"/>
          </a:xfrm>
          <a:prstGeom prst="rect">
            <a:avLst/>
          </a:prstGeom>
          <a:solidFill>
            <a:srgbClr val="ff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94240" y="1689120"/>
            <a:ext cx="5575320" cy="182520"/>
          </a:xfrm>
          <a:prstGeom prst="rect">
            <a:avLst/>
          </a:prstGeom>
          <a:solidFill>
            <a:srgbClr val="ff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Sentencing Revocation Reports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6000" y="1447920"/>
            <a:ext cx="8229600" cy="4308120"/>
            <a:chOff x="216000" y="1447920"/>
            <a:chExt cx="8229600" cy="4308120"/>
          </a:xfrm>
        </p:grpSpPr>
        <p:cxnSp>
          <p:nvCxnSpPr>
            <p:cNvPr id="183" name="_s188436"/>
            <p:cNvCxnSpPr>
              <a:stCxn id="184" idx="1"/>
              <a:endCxn id="185" idx="2"/>
            </p:cNvCxnSpPr>
            <p:nvPr/>
          </p:nvCxnSpPr>
          <p:spPr>
            <a:xfrm rot="10800000">
              <a:off x="5057640" y="2229480"/>
              <a:ext cx="48312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6" name="_s188423"/>
            <p:cNvCxnSpPr>
              <a:stCxn id="187" idx="0"/>
              <a:endCxn id="188" idx="2"/>
            </p:cNvCxnSpPr>
            <p:nvPr/>
          </p:nvCxnSpPr>
          <p:spPr>
            <a:xfrm flipV="1" rot="16200000">
              <a:off x="4013280" y="3928680"/>
              <a:ext cx="393480" cy="169632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9" name="_s188424"/>
            <p:cNvCxnSpPr>
              <a:stCxn id="190" idx="0"/>
              <a:endCxn id="188" idx="2"/>
            </p:cNvCxnSpPr>
            <p:nvPr/>
          </p:nvCxnSpPr>
          <p:spPr>
            <a:xfrm flipH="1" flipV="1" rot="5400000">
              <a:off x="2318760" y="3929760"/>
              <a:ext cx="393480" cy="169488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188425"/>
            <p:cNvCxnSpPr>
              <a:stCxn id="192" idx="3"/>
              <a:endCxn id="185" idx="2"/>
            </p:cNvCxnSpPr>
            <p:nvPr/>
          </p:nvCxnSpPr>
          <p:spPr>
            <a:xfrm flipV="1">
              <a:off x="4571280" y="2229840"/>
              <a:ext cx="48708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188426"/>
            <p:cNvCxnSpPr>
              <a:stCxn id="194" idx="0"/>
              <a:endCxn id="185" idx="2"/>
            </p:cNvCxnSpPr>
            <p:nvPr/>
          </p:nvCxnSpPr>
          <p:spPr>
            <a:xfrm flipV="1" rot="16200000">
              <a:off x="5121000" y="2166120"/>
              <a:ext cx="1567080" cy="169344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188427"/>
            <p:cNvCxnSpPr>
              <a:stCxn id="188" idx="0"/>
              <a:endCxn id="185" idx="2"/>
            </p:cNvCxnSpPr>
            <p:nvPr/>
          </p:nvCxnSpPr>
          <p:spPr>
            <a:xfrm flipH="1" flipV="1" rot="5400000">
              <a:off x="3426840" y="2165040"/>
              <a:ext cx="1567080" cy="169632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5" name="_s188428"/>
            <p:cNvSpPr/>
            <p:nvPr/>
          </p:nvSpPr>
          <p:spPr>
            <a:xfrm>
              <a:off x="3604680" y="144792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1c4fe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1,631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OTAL SENTENCING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VOCATION REPORT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88429"/>
            <p:cNvSpPr/>
            <p:nvPr/>
          </p:nvSpPr>
          <p:spPr>
            <a:xfrm>
              <a:off x="1910520" y="37976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,226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ECHNICAL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88430"/>
            <p:cNvSpPr/>
            <p:nvPr/>
          </p:nvSpPr>
          <p:spPr>
            <a:xfrm>
              <a:off x="5298840" y="3797640"/>
              <a:ext cx="2904480" cy="78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1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NEW LAW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88431"/>
            <p:cNvSpPr/>
            <p:nvPr/>
          </p:nvSpPr>
          <p:spPr>
            <a:xfrm>
              <a:off x="1668240" y="262296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e4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issing Condi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188432"/>
            <p:cNvSpPr/>
            <p:nvPr/>
          </p:nvSpPr>
          <p:spPr>
            <a:xfrm>
              <a:off x="21600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067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88433"/>
            <p:cNvSpPr/>
            <p:nvPr/>
          </p:nvSpPr>
          <p:spPr>
            <a:xfrm>
              <a:off x="360468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,159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*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88435"/>
            <p:cNvSpPr/>
            <p:nvPr/>
          </p:nvSpPr>
          <p:spPr>
            <a:xfrm>
              <a:off x="5541120" y="2622960"/>
              <a:ext cx="2904480" cy="78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9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 Violatio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3 also missing conditions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5791320"/>
            <a:ext cx="8115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*Cases are not included in compliance analysis if the guidelines do not apply (the case involves a parole-eligible offense, first offender violation, misdemeanor original offense, or the offender was not on supervised probation), if the guidelines forms were incomplete, or if outdated forms were prepar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3733920"/>
            <a:ext cx="1523880" cy="10666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876920"/>
            <a:ext cx="2057400" cy="10666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Reasons Cases Excluded from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Probation Violation Guidelines Compliance Analysis</a:t>
            </a:r>
            <a:br>
              <a:rPr sz="2800"/>
            </a:b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(n=6,309)</a:t>
            </a:r>
            <a:endParaRPr b="0" lang="en-US" sz="20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48520"/>
            <a:ext cx="811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*Percentages do not total 100% because there may be multiple reasons that cases cannot be used in compliance analysi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523880"/>
          <a:ext cx="91440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91440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0" y="6521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Sentencing Revocation Reports</a:t>
            </a:r>
            <a:endParaRPr b="0" lang="en-US" sz="2800" spc="-1" strike="noStrike">
              <a:solidFill>
                <a:srgbClr val="ccecff"/>
              </a:solidFill>
              <a:latin typeface="Imprint MT Shado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16000" y="1447920"/>
            <a:ext cx="8229600" cy="4308120"/>
            <a:chOff x="216000" y="1447920"/>
            <a:chExt cx="8229600" cy="4308120"/>
          </a:xfrm>
        </p:grpSpPr>
        <p:cxnSp>
          <p:nvCxnSpPr>
            <p:cNvPr id="207" name="_s195589"/>
            <p:cNvCxnSpPr>
              <a:stCxn id="208" idx="1"/>
              <a:endCxn id="209" idx="2"/>
            </p:cNvCxnSpPr>
            <p:nvPr/>
          </p:nvCxnSpPr>
          <p:spPr>
            <a:xfrm rot="10800000">
              <a:off x="5057640" y="2229480"/>
              <a:ext cx="48312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0" name="_s195590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4013280" y="3928680"/>
              <a:ext cx="393480" cy="169632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195591"/>
            <p:cNvCxnSpPr>
              <a:stCxn id="214" idx="0"/>
              <a:endCxn id="212" idx="2"/>
            </p:cNvCxnSpPr>
            <p:nvPr/>
          </p:nvCxnSpPr>
          <p:spPr>
            <a:xfrm flipH="1" flipV="1" rot="5400000">
              <a:off x="2318760" y="3929760"/>
              <a:ext cx="393480" cy="1694880"/>
            </a:xfrm>
            <a:prstGeom prst="bentConnector3">
              <a:avLst>
                <a:gd name="adj1" fmla="val 29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195592"/>
            <p:cNvCxnSpPr>
              <a:stCxn id="216" idx="3"/>
              <a:endCxn id="209" idx="2"/>
            </p:cNvCxnSpPr>
            <p:nvPr/>
          </p:nvCxnSpPr>
          <p:spPr>
            <a:xfrm flipV="1">
              <a:off x="4571280" y="2229840"/>
              <a:ext cx="487080" cy="78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95593"/>
            <p:cNvCxnSpPr>
              <a:stCxn id="218" idx="0"/>
              <a:endCxn id="209" idx="2"/>
            </p:cNvCxnSpPr>
            <p:nvPr/>
          </p:nvCxnSpPr>
          <p:spPr>
            <a:xfrm flipV="1" rot="16200000">
              <a:off x="5121000" y="2166120"/>
              <a:ext cx="1567080" cy="169344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_s195594"/>
            <p:cNvCxnSpPr>
              <a:stCxn id="212" idx="0"/>
              <a:endCxn id="209" idx="2"/>
            </p:cNvCxnSpPr>
            <p:nvPr/>
          </p:nvCxnSpPr>
          <p:spPr>
            <a:xfrm flipH="1" flipV="1" rot="5400000">
              <a:off x="3426840" y="2165040"/>
              <a:ext cx="1567080" cy="1696320"/>
            </a:xfrm>
            <a:prstGeom prst="bentConnector3">
              <a:avLst>
                <a:gd name="adj1" fmla="val 72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9" name="_s195595"/>
            <p:cNvSpPr/>
            <p:nvPr/>
          </p:nvSpPr>
          <p:spPr>
            <a:xfrm>
              <a:off x="3604680" y="144792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1c4fe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1,631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OTAL SENTENCING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VOCATION REPORT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95596"/>
            <p:cNvSpPr/>
            <p:nvPr/>
          </p:nvSpPr>
          <p:spPr>
            <a:xfrm>
              <a:off x="1910520" y="37976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,226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TECHNICAL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95597"/>
            <p:cNvSpPr/>
            <p:nvPr/>
          </p:nvSpPr>
          <p:spPr>
            <a:xfrm>
              <a:off x="5298840" y="3797640"/>
              <a:ext cx="2904480" cy="78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1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NEW LAW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IOL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95598"/>
            <p:cNvSpPr/>
            <p:nvPr/>
          </p:nvSpPr>
          <p:spPr>
            <a:xfrm>
              <a:off x="1668240" y="262296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e4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issing Condi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95599"/>
            <p:cNvSpPr/>
            <p:nvPr/>
          </p:nvSpPr>
          <p:spPr>
            <a:xfrm>
              <a:off x="21600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,067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95600"/>
            <p:cNvSpPr/>
            <p:nvPr/>
          </p:nvSpPr>
          <p:spPr>
            <a:xfrm>
              <a:off x="3604680" y="4973040"/>
              <a:ext cx="2904480" cy="78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99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,159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pliance Analysis*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95601"/>
            <p:cNvSpPr/>
            <p:nvPr/>
          </p:nvSpPr>
          <p:spPr>
            <a:xfrm>
              <a:off x="5541120" y="2622960"/>
              <a:ext cx="2904480" cy="78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9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ot In Violation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3 also missing conditions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09480" y="4876920"/>
            <a:ext cx="2057400" cy="10666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791320"/>
            <a:ext cx="8115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*Cases are not included in compliance analysis if the guidelines do not apply (the case involves a parole-eligible offense, first offender violation, misdemeanor original offense, or the offender was not on supervised probation), if the guidelines forms were incomplete, or if outdated forms were prepar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1752480"/>
          <a:ext cx="82119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211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 Cases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by Type of Original Offense*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n=5,067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2590920"/>
            <a:ext cx="2667240" cy="533160"/>
          </a:xfrm>
          <a:prstGeom prst="ellipse">
            <a:avLst/>
          </a:prstGeom>
          <a:gradFill rotWithShape="0">
            <a:gsLst>
              <a:gs pos="0">
                <a:srgbClr val="c1d9fe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5% Sex Offe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105520" y="2971800"/>
            <a:ext cx="7617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105520" y="3505320"/>
            <a:ext cx="7617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200400"/>
            <a:ext cx="2666880" cy="533520"/>
          </a:xfrm>
          <a:prstGeom prst="ellipse">
            <a:avLst/>
          </a:prstGeom>
          <a:gradFill rotWithShape="0">
            <a:gsLst>
              <a:gs pos="0">
                <a:srgbClr val="c1d9fe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4% Other 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5943600"/>
            <a:ext cx="769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*Offense categories from “Appendix E: Offense Types” in the 3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Edition Sentencing Revocation Report &amp; Probation Violation Guidelines manu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371600"/>
          <a:ext cx="91440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FY2008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Conditions Cited in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Probation Violation Guidelines Cases*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Imprint MT Shadow"/>
              </a:rPr>
              <a:t>n=5,067 </a:t>
            </a:r>
            <a:endParaRPr b="0" lang="en-US" sz="2400" spc="-1" strike="noStrike">
              <a:solidFill>
                <a:srgbClr val="ccecff"/>
              </a:solidFill>
              <a:latin typeface="Imprint MT Shadow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4419720"/>
            <a:ext cx="3353040" cy="1371600"/>
          </a:xfrm>
          <a:prstGeom prst="borderCallout1">
            <a:avLst>
              <a:gd name="adj1" fmla="val -491"/>
              <a:gd name="adj2" fmla="val -14250"/>
              <a:gd name="adj3" fmla="val -491"/>
              <a:gd name="adj4" fmla="val 198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titution/court cos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tance abuse treat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rogra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x offender restric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1% Report for prob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09588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*Percentages do not total 100% because there may be multiple violations cited for each defenda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ge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47:49Z</dcterms:created>
  <dc:creator>akepus</dc:creator>
  <dc:description/>
  <dc:language>en-US</dc:language>
  <cp:lastModifiedBy>akepus</cp:lastModifiedBy>
  <dcterms:modified xsi:type="dcterms:W3CDTF">2009-03-16T13:40:30Z</dcterms:modified>
  <cp:revision>104</cp:revision>
  <dc:subject/>
  <dc:title>FY2008</dc:title>
</cp:coreProperties>
</file>