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ECFC-F36F-4C07-8BA0-02C76FB28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4B7B-2B32-460F-BB63-092BB64730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8E88-874A-433A-9024-CB7BDECFD3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FD38-6446-43FA-B2D7-C2F417386A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3B51-29E7-4E41-B9FF-75A04927FC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E55F-69CE-4166-8BC5-A08A4D6AB1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4EDE-93D5-4BE8-9F9C-DF0E7027B0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7C9C-FE2E-4223-A9B5-12CACAD9BC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D4F9-9352-4438-93FD-6170C676D3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963E-3E8C-4B12-A44D-45419EDAC9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430D-3D17-4E1C-93FF-1402B5A62C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8CED-6C44-4897-9510-4F0F35CD15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62B0-B1E3-4F06-B619-2D07B12C00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144B-1C75-48C5-B0ED-023CEA9273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3C0A-1C27-469D-9A95-E85DDAC3FA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4A8F-0B12-4B66-8150-F040C8987C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270B-9831-454A-B077-6828D36016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2798-AD3C-448E-B7FC-9FB90D0CB8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5AFD1-717F-4692-B964-8FB125B4A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131DD-121A-4A34-821C-2DFE50A73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8B82F-35A1-4AEC-A59B-BEE3E7FD5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129F1-7398-4557-A263-2FCF1A431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576EF-FDFC-4137-B0FE-5C0CA16EA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AE00C-A99D-44C8-84B1-49971C363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E8CCD-906E-4B3D-9FB3-6D4CF3BDF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292ED-D2B5-457A-A77F-1D489F517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E02DD-87ED-4D19-8BF5-70CA0F62F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8DE74-0A4A-4FA8-808F-8968E642C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22BE9-362E-4076-8CDD-00D6C8FC9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A6959-BD47-4DE8-B4B6-C38CF14AC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E2D50-CF30-423E-919C-3D3A59194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19A21-3EA0-4F4A-AC8C-661CB3CA6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E9CE7-A4B6-42E1-8F31-6095213B7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F41D2-79F3-4FA8-B766-1FC133C0F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14F4C-290C-440B-BA00-D99A8D2AF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3F2E-58DD-422B-A3A0-9345D110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725D4-1676-4672-9E76-253F76FD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CA14C-8507-46A6-AB9E-B1F6F4401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6ABE9-17D0-4F3D-9B71-F557E09B4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41C5-6705-4E71-80C2-6C3170019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D125-C613-4A62-951D-9077D4B0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B0FB-B187-4BFB-9200-E491804CB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CC37-FBE6-4BDC-AA5E-FBD3D9F7632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A4A7-8E15-4B3D-8F13-5ADB4A88E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F726-4EC3-4BFE-AC1A-45AC5BB01C68}"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C3C4-92A3-474E-8BD0-A8908056A17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7200" y="-3812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Drug Courts</a:t>
            </a:r>
            <a:endParaRPr b="0" lang="en-US" sz="1800" spc="-1" strike="noStrike">
              <a:solidFill>
                <a:srgbClr val="333399"/>
              </a:solidFill>
              <a:latin typeface="Tahoma"/>
            </a:endParaRPr>
          </a:p>
        </p:txBody>
      </p:sp>
      <p:sp>
        <p:nvSpPr>
          <p:cNvPr id="3" name="PlaceHolder 2"/>
          <p:cNvSpPr>
            <a:spLocks noGrp="1"/>
          </p:cNvSpPr>
          <p:nvPr>
            <p:ph type="sldNum" idx="6"/>
          </p:nvPr>
        </p:nvSpPr>
        <p:spPr/>
        <p:txBody>
          <a:bodyPr/>
          <a:p>
            <a:fld id="{B238940A-BBD1-4BDA-BACF-578D42189E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360"/>
            <a:ext cx="80010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recidivism – other stud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Adult Drug Courts in Massachusetts – drug court participants were 13% less likely to be re-arrested, 34% less likely to be re-convicted, and 24% less likely to be re-incarcerated than probationers who had been carefully matched to the drug court participants using sophisticated “propensity score” analyses [Rhodes, Kling, &amp; Shively, 2006].</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0053874-10BF-4B9F-8B27-41CA463956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99"/>
                </a:solidFill>
                <a:latin typeface="Tahoma"/>
              </a:rPr>
              <a:t>Drug Courts Reduce Recidivism</a:t>
            </a:r>
            <a:endParaRPr b="0" lang="en-US" sz="43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st rigorous and conservative estimate of the effect of any program is derived from meta-analy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gures are </a:t>
            </a:r>
            <a:r>
              <a:rPr b="1" i="1" lang="en-US" sz="3200" spc="-1" strike="noStrike">
                <a:solidFill>
                  <a:srgbClr val="ff0000"/>
                </a:solidFill>
                <a:latin typeface="Tahoma"/>
              </a:rPr>
              <a:t>averages, and include programs that were poorly implemented, targeted to the wrong people, or had only recently opened their door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E460550-F583-44A5-B87A-B03BC88F3D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360"/>
            <a:ext cx="80010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recidivism – other studies</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ent long-term evaluation of a Portland, Oregon Drug Court found that crime was reduced by 30% over 5 years, and effects on crime were still detectable 14 years from the time of arrest [Finigan, Carey &amp; Cox, 2007]</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1609C99-D700-4A9D-8D73-3DC1DBEFD3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recidivism – other studi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A Summer 2004 study of 6 NY drug courts (Bronx, Brooklyn, Queens, Suffolk County, Syracuse and Rochester)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6 drug courts reduced the reconviction rate by an average of 29% over 3 years after the initial arrest.</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one year post-program, the reconviction rate was 71% less for graduates compared with nonparticipants across the 6 cour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7084158-A8AE-4950-A4E0-F4031B9BEC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idivism Rates Compared</a:t>
            </a:r>
            <a:endParaRPr b="0" lang="en-US" sz="4400" spc="-1" strike="noStrike">
              <a:solidFill>
                <a:srgbClr val="333399"/>
              </a:solidFill>
              <a:latin typeface="Tahoma"/>
            </a:endParaRPr>
          </a:p>
        </p:txBody>
      </p:sp>
      <p:graphicFrame>
        <p:nvGraphicFramePr>
          <p:cNvPr id="133" name=""/>
          <p:cNvGraphicFramePr/>
          <p:nvPr/>
        </p:nvGraphicFramePr>
        <p:xfrm>
          <a:off x="914400" y="1833480"/>
          <a:ext cx="7010280" cy="4478400"/>
        </p:xfrm>
        <a:graphic>
          <a:graphicData uri="http://schemas.openxmlformats.org/drawingml/2006/table">
            <a:tbl>
              <a:tblPr/>
              <a:tblGrid>
                <a:gridCol w="2743200"/>
                <a:gridCol w="2057400"/>
                <a:gridCol w="220968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idivism Rates Compared</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455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ty</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itional Co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rug Cour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ver, CO</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3%</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nomah County, OR (Portlan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3</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59*</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akland, C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3*</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75*</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verside, C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3.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4%</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vis County, TX</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1.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8.0%</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mington, D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1.1%</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3.3%</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Expressed not as a percentage, but rather as the average number of arrests suffered during the follow-up period.”</a:t>
                      </a:r>
                      <a:endParaRPr b="0" lang="en-US" sz="16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153A1558-7A6C-4AFB-B6A9-CD5878DE2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805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are cost effective</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arceration of drug using offenders costs between $20,000 and $50,000 per person, per year. The capital costs of building a prison cell can be as high as $80,000. A comprehensive drug court system typically costs between $2,500 and $4,000 annually for each offender. NADCP, The Facts on Drug Courts [available at www.nadcp.or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D6F6FF0-150E-46E5-A40A-86BE0E303E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3805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are cost effective</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 of several large-scale, rigorous cost analyses of adult drug court programs: For every $1,000 invested in adult drug courts, communities reaped approximately $2 to $4 in benefits, totaling roughly $3,000 to $12,000 per participant.</a:t>
            </a:r>
            <a:endParaRPr b="0" lang="en-US" sz="32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Dr. Douglas B. Marlow, J.D., Ph.D. Chief of Research, Law and Policy, NADCP]</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76E3322-6467-48AD-A01F-58AD308DA7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50720" y="3805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st Analyses</a:t>
            </a:r>
            <a:endParaRPr b="0" lang="en-US" sz="4400" spc="-1" strike="noStrike">
              <a:solidFill>
                <a:srgbClr val="333399"/>
              </a:solidFill>
              <a:latin typeface="Tahoma"/>
            </a:endParaRPr>
          </a:p>
        </p:txBody>
      </p:sp>
      <p:graphicFrame>
        <p:nvGraphicFramePr>
          <p:cNvPr id="139" name=""/>
          <p:cNvGraphicFramePr/>
          <p:nvPr/>
        </p:nvGraphicFramePr>
        <p:xfrm>
          <a:off x="914400" y="2046240"/>
          <a:ext cx="7772400" cy="4400640"/>
        </p:xfrm>
        <a:graphic>
          <a:graphicData uri="http://schemas.openxmlformats.org/drawingml/2006/table">
            <a:tbl>
              <a:tblPr/>
              <a:tblGrid>
                <a:gridCol w="1943280"/>
                <a:gridCol w="1942920"/>
                <a:gridCol w="1943280"/>
                <a:gridCol w="1942920"/>
              </a:tblGrid>
              <a:tr h="140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ita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Benefit Per $1 Inves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Cost Saving Per </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rug Court Clien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tal Projected Cost Savings</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man (2004)</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80 to $6.32</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615 to $7,70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98,399 after 4 yrs</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igan et al. (2006)</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63</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744 to $12,21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9 million per yr.</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rnoski &amp; Aos (2003)</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4</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88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ey et al. (2006)</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5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 million per yr.</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os et al. (2006)</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6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4E01947-4B44-4CB7-9E77-283586E2F4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3805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st Analyses – other studie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shington, DC – 1 year of Drug Court costs $1,800 to $4,400 per participant. This compares to at least $20,000 per year to jail an offend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otre Dame Law Review, “Therapeutic Jurisprudence and the Drug Treatment Court Movement” Vol. 72, Issue 2, Jan. 1999].</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A04272D-E642-47B1-81A9-810BBC536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substance abuse and save lives </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dditional medical costs associated with the delivery of a drug-addicted baby are estimated to range from approximately $1,500 to $25,000 per day [Cooper, 2004]</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F5858B3-0DA6-46B6-9D68-86EE5520AE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371240"/>
            <a:ext cx="77724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 The National</a:t>
            </a:r>
            <a:br>
              <a:rPr sz="4400"/>
            </a:br>
            <a:r>
              <a:rPr b="0" lang="en-US" sz="4400" spc="-1" strike="noStrike">
                <a:solidFill>
                  <a:srgbClr val="333399"/>
                </a:solidFill>
                <a:latin typeface="Tahoma"/>
              </a:rPr>
              <a:t>        Perspective</a:t>
            </a:r>
            <a:endParaRPr b="0" lang="en-US" sz="4400" spc="-1" strike="noStrike">
              <a:solidFill>
                <a:srgbClr val="333399"/>
              </a:solidFill>
              <a:latin typeface="Tahoma"/>
            </a:endParaRPr>
          </a:p>
        </p:txBody>
      </p:sp>
      <p:sp>
        <p:nvSpPr>
          <p:cNvPr id="108" name="PlaceHolder 2"/>
          <p:cNvSpPr>
            <a:spLocks noGrp="1"/>
          </p:cNvSpPr>
          <p:nvPr>
            <p:ph type="subTitle"/>
          </p:nvPr>
        </p:nvSpPr>
        <p:spPr>
          <a:xfrm>
            <a:off x="1447920" y="342900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tion by the Virginia Drug Treatment Court Advisory 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ning and Development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2008</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41A3CDE2-CC3E-454C-87C6-76F26E078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save lives</a:t>
            </a:r>
            <a:endParaRPr b="0" lang="en-US" sz="44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onatal intensive care expenses can range from $25,000 to $35,000 for the care of low-birth weight newborns and may reach $250,000 over the course of the first year of life [Office of Justice Programs, 1997].</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5C7D6BB3-BAB2-4A8E-B580-B673FD7D5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save lives</a:t>
            </a:r>
            <a:endParaRPr b="0" lang="en-US" sz="44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ous care expenses through the age of 18 years for developmentally delayed children can be as high as $750,000 [Janovsky &amp; Kalotra, 2003].</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E27862D0-B184-44A0-9593-9C66C9095D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save lives</a:t>
            </a:r>
            <a:endParaRPr b="0" lang="en-US" sz="44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4 states and territories provided usable data on confirmed births of drug free babies to their drug court participants.</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2005, 844 drug free babies were   born to active female drug court participants.</a:t>
            </a:r>
            <a:endParaRPr b="0" lang="en-US" sz="3200" spc="-1" strike="noStrike">
              <a:solidFill>
                <a:srgbClr val="000000"/>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5 National Survey on Drug Courts and Other Problem-solving Courts, National Drug Court Institut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46A67EA-892A-4C52-8F0E-F2F810D98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560"/>
            <a:ext cx="7800840" cy="1455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substance abuse and save lives</a:t>
            </a:r>
            <a:endParaRPr b="0" lang="en-US" sz="4400" spc="-1" strike="noStrike">
              <a:solidFill>
                <a:srgbClr val="333399"/>
              </a:solidFill>
              <a:latin typeface="Tahoma"/>
            </a:endParaRPr>
          </a:p>
        </p:txBody>
      </p:sp>
      <p:sp>
        <p:nvSpPr>
          <p:cNvPr id="151" name=""/>
          <p:cNvSpPr txBox="1"/>
          <p:nvPr/>
        </p:nvSpPr>
        <p:spPr>
          <a:xfrm>
            <a:off x="837720" y="2017800"/>
            <a:ext cx="8116920" cy="468792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ug courts provide closer, more comprehensive supervision and much more frequent drug testing and monitoring during the program, than other forms of community supervision. Drug use and criminal behavior are substantially reduced while offenders are participating in drug court.</a:t>
            </a:r>
            <a:endParaRPr b="0" lang="en-US" sz="3200" spc="-1" strike="noStrike">
              <a:solidFill>
                <a:srgbClr val="000000"/>
              </a:solidFill>
              <a:latin typeface="Tahom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lumbia University, National Center on Addiction and Substance Abuse. Research on Drug Courts: A Critical Review, 2001].</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C916C3D-020A-4408-9A0C-99F643986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substance abuse and save lives</a:t>
            </a:r>
            <a:endParaRPr b="0" lang="en-US" sz="4400" spc="-1" strike="noStrike">
              <a:solidFill>
                <a:srgbClr val="333399"/>
              </a:solidFill>
              <a:latin typeface="Tahoma"/>
            </a:endParaRPr>
          </a:p>
        </p:txBody>
      </p:sp>
      <p:sp>
        <p:nvSpPr>
          <p:cNvPr id="153" name=""/>
          <p:cNvSpPr txBox="1"/>
          <p:nvPr/>
        </p:nvSpPr>
        <p:spPr>
          <a:xfrm>
            <a:off x="837720" y="1828800"/>
            <a:ext cx="8116920" cy="5029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onger an addicted person stays in treatment, the better the out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ve research confirms that treatment is the most cost effective way to combat drug abuse and non-violent drug-related cri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of all drug-using offenders who entered drug court programs either successfully completed or are current participants</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Accounting Office, 1997]</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563DB59-D423-4EC8-AAD3-BC13FCF23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877160" cy="1455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re are Drug Courts located? How many are there?</a:t>
            </a:r>
            <a:endParaRPr b="0" lang="en-US" sz="4400" spc="-1" strike="noStrike">
              <a:solidFill>
                <a:srgbClr val="333399"/>
              </a:solidFill>
              <a:latin typeface="Tahoma"/>
            </a:endParaRPr>
          </a:p>
        </p:txBody>
      </p:sp>
      <p:sp>
        <p:nvSpPr>
          <p:cNvPr id="155" name="PlaceHolder 2"/>
          <p:cNvSpPr>
            <a:spLocks noGrp="1"/>
          </p:cNvSpPr>
          <p:nvPr>
            <p:ph/>
          </p:nvPr>
        </p:nvSpPr>
        <p:spPr>
          <a:xfrm>
            <a:off x="914040" y="2017800"/>
            <a:ext cx="8040600" cy="4535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ug Courts are in all 50 states, plus DC, Puerto Rico, Guam and the Northern Mariana Islan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1,872 Drug Cour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dditional 255 Drug Courts are in the planning proces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JA Drug Court Clearinghouse, May 23, 2008]</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A84AB41-8A6B-44B6-B372-824EBA46EF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Executive Branch of Government</a:t>
            </a:r>
            <a:endParaRPr b="0" lang="en-US" sz="4400" spc="-1" strike="noStrike">
              <a:solidFill>
                <a:srgbClr val="000000"/>
              </a:solidFill>
              <a:latin typeface="Tahoma"/>
            </a:endParaRPr>
          </a:p>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Legislative Branch of Government</a:t>
            </a:r>
            <a:endParaRPr b="0" lang="en-US" sz="4400" spc="-1" strike="noStrike">
              <a:solidFill>
                <a:srgbClr val="000000"/>
              </a:solidFill>
              <a:latin typeface="Tahoma"/>
            </a:endParaRPr>
          </a:p>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Judicial Branch of Government</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FE1AB7C0-F3F8-4EC4-917E-E80429D730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59" name="PlaceHolder 2"/>
          <p:cNvSpPr>
            <a:spLocks noGrp="1"/>
          </p:cNvSpPr>
          <p:nvPr>
            <p:ph/>
          </p:nvPr>
        </p:nvSpPr>
        <p:spPr>
          <a:xfrm>
            <a:off x="762120" y="1904760"/>
            <a:ext cx="4038480" cy="46479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Drug courts are an effective and cost efficient way to help non-violent drug offenders commit to a rigorous drug treatment program in lieu of pris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 George W. Bush</a:t>
            </a:r>
            <a:endParaRPr b="0" lang="en-US" sz="2800" spc="-1" strike="noStrike">
              <a:solidFill>
                <a:srgbClr val="000000"/>
              </a:solidFill>
              <a:latin typeface="Tahoma"/>
            </a:endParaRPr>
          </a:p>
        </p:txBody>
      </p:sp>
      <p:sp>
        <p:nvSpPr>
          <p:cNvPr id="160" name="Rectangle 5"/>
          <p:cNvSpPr/>
          <p:nvPr/>
        </p:nvSpPr>
        <p:spPr>
          <a:xfrm>
            <a:off x="-1071720" y="22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61" name="Group 12"/>
          <p:cNvGrpSpPr/>
          <p:nvPr/>
        </p:nvGrpSpPr>
        <p:grpSpPr>
          <a:xfrm>
            <a:off x="414360" y="2200320"/>
            <a:ext cx="6172200" cy="360"/>
            <a:chOff x="414360" y="2200320"/>
            <a:chExt cx="6172200" cy="360"/>
          </a:xfrm>
        </p:grpSpPr>
        <p:sp>
          <p:nvSpPr>
            <p:cNvPr id="162" name="Rectangle 6"/>
            <p:cNvSpPr/>
            <p:nvPr/>
          </p:nvSpPr>
          <p:spPr>
            <a:xfrm>
              <a:off x="414360" y="2200320"/>
              <a:ext cx="6172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Rectangle 7"/>
            <p:cNvSpPr/>
            <p:nvPr/>
          </p:nvSpPr>
          <p:spPr>
            <a:xfrm>
              <a:off x="414360" y="2200320"/>
              <a:ext cx="6172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64" name="Group 11"/>
          <p:cNvGrpSpPr/>
          <p:nvPr/>
        </p:nvGrpSpPr>
        <p:grpSpPr>
          <a:xfrm>
            <a:off x="-1071720" y="2200320"/>
            <a:ext cx="11288880" cy="2394000"/>
            <a:chOff x="-1071720" y="2200320"/>
            <a:chExt cx="11288880" cy="2394000"/>
          </a:xfrm>
        </p:grpSpPr>
        <p:sp>
          <p:nvSpPr>
            <p:cNvPr id="165" name="Rectangle 8"/>
            <p:cNvSpPr/>
            <p:nvPr/>
          </p:nvSpPr>
          <p:spPr>
            <a:xfrm>
              <a:off x="-1071720" y="22003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Rectangle 9"/>
            <p:cNvSpPr/>
            <p:nvPr/>
          </p:nvSpPr>
          <p:spPr>
            <a:xfrm>
              <a:off x="-1071720" y="2200320"/>
              <a:ext cx="11288880" cy="23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151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Tahoma"/>
              </a:endParaRPr>
            </a:p>
          </p:txBody>
        </p:sp>
      </p:grpSp>
      <p:pic>
        <p:nvPicPr>
          <p:cNvPr id="167" name="Picture 13" descr="Free photo of Pres. George Bush at the CENTCOM Conference, Tampa Fl., 5/2007"/>
          <p:cNvPicPr/>
          <p:nvPr/>
        </p:nvPicPr>
        <p:blipFill>
          <a:blip r:embed="rId1"/>
          <a:stretch/>
        </p:blipFill>
        <p:spPr>
          <a:xfrm>
            <a:off x="4724280" y="2440080"/>
            <a:ext cx="4230720" cy="2975040"/>
          </a:xfrm>
          <a:prstGeom prst="rect">
            <a:avLst/>
          </a:prstGeom>
          <a:ln w="0">
            <a:noFill/>
          </a:ln>
        </p:spPr>
      </p:pic>
      <p:sp>
        <p:nvSpPr>
          <p:cNvPr id="4" name="PlaceHolder 3"/>
          <p:cNvSpPr>
            <a:spLocks noGrp="1"/>
          </p:cNvSpPr>
          <p:nvPr>
            <p:ph type="sldNum" idx="3"/>
          </p:nvPr>
        </p:nvSpPr>
        <p:spPr/>
        <p:txBody>
          <a:bodyPr/>
          <a:p>
            <a:fld id="{AF864E6C-1A12-4B4D-97A7-79B490AA3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69" name=""/>
          <p:cNvSpPr txBox="1"/>
          <p:nvPr/>
        </p:nvSpPr>
        <p:spPr>
          <a:xfrm>
            <a:off x="837720" y="2017800"/>
            <a:ext cx="8116920" cy="4687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By leveraging the coercive power of the criminal justice system, drug courts can alter the behavior of non-violent, low-level drug offenders through a combination of judicial supervision, case management, mandatory drug testing, and treatment to ensure abstinence from drugs, and escalating sanc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 Bush, Blueprint for New Beginnings, February 28, 2001.</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A2469A22-A517-498D-9CF9-1F8630354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ree quarters of the growth in the number of federal prison inmates is due to drug crimes. Building new prisons will go only so far. Drug courts and mandatory testing and treatment are effective. I have seen drug courts work. I know they . . . make a difference.”</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er President William J. Clinton</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791D65C2-4D48-4174-AF3B-591C51921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228240"/>
            <a:ext cx="746784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 The National Perspective</a:t>
            </a:r>
            <a:endParaRPr b="0" lang="en-US" sz="4400" spc="-1" strike="noStrike">
              <a:solidFill>
                <a:srgbClr val="333399"/>
              </a:solidFill>
              <a:latin typeface="Tahoma"/>
            </a:endParaRPr>
          </a:p>
        </p:txBody>
      </p:sp>
      <p:sp>
        <p:nvSpPr>
          <p:cNvPr id="110" name="PlaceHolder 2"/>
          <p:cNvSpPr>
            <a:spLocks noGrp="1"/>
          </p:cNvSpPr>
          <p:nvPr>
            <p:ph/>
          </p:nvPr>
        </p:nvSpPr>
        <p:spPr>
          <a:xfrm>
            <a:off x="1066680" y="2133360"/>
            <a:ext cx="7772400" cy="43434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Drug Courts reduce recidivis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Drug Courts cost effe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Drug Courts reduce substance abuse and save li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re Drug Courts in the United Sta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support Drug Courts nationall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97159F5-9066-4870-B459-2862DC51A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5331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73" name=""/>
          <p:cNvSpPr txBox="1"/>
          <p:nvPr/>
        </p:nvSpPr>
        <p:spPr>
          <a:xfrm>
            <a:off x="837720" y="2017800"/>
            <a:ext cx="8116920" cy="4611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 long-term viability of the existing drug courts is critical, and can best be accomplished by ensuring that the courts are able to support the full range of services–especially treatment and training--that are needed by drug court clients if they are to break the cycle of drug abuse and criminal activity.”</a:t>
            </a:r>
            <a:endParaRPr b="0" lang="en-US" sz="32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er Attorney General John Ashcrof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C041C81-438D-4115-8DF3-17150C44FB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533520"/>
            <a:ext cx="78008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br>
              <a:rPr sz="4400"/>
            </a:br>
            <a:endParaRPr b="0" lang="en-US" sz="4400" spc="-1" strike="noStrike">
              <a:solidFill>
                <a:srgbClr val="333399"/>
              </a:solidFill>
              <a:latin typeface="Tahoma"/>
            </a:endParaRPr>
          </a:p>
        </p:txBody>
      </p:sp>
      <p:sp>
        <p:nvSpPr>
          <p:cNvPr id="175" name=""/>
          <p:cNvSpPr txBox="1"/>
          <p:nvPr/>
        </p:nvSpPr>
        <p:spPr>
          <a:xfrm>
            <a:off x="1219320" y="1752120"/>
            <a:ext cx="7772400" cy="495324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rug usage of offenders participating in drug court programs is substantially reduced when they are in the programs, and [for] most participants who complete the program, drug use is eliminated altogether – let us get that message out to Congress, to state legislatures, to cities, county commissioners – treatment does work.”</a:t>
            </a:r>
            <a:endParaRPr b="0" lang="en-US" sz="32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er Attorney General Janet Reno</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CA6DAE6-D35D-4702-9E26-A40C051A88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77" name=""/>
          <p:cNvSpPr txBox="1"/>
          <p:nvPr/>
        </p:nvSpPr>
        <p:spPr>
          <a:xfrm>
            <a:off x="762120" y="2017800"/>
            <a:ext cx="8192880" cy="468792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 establishment of drug courts, coupled with [their] judicial leadership, constitutes one of the most monumental changes in social justice in this country since WWII. Maintaining the integrity of the drug court movement will take constant monitoring and reassessment of their progress.”</a:t>
            </a:r>
            <a:endParaRPr b="0" lang="en-US" sz="32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Barry McCaffrey (ret.), Former Director, Office of National Drug Control Polic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B613522-B0CC-49CC-BF0C-571CB48733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79" name=""/>
          <p:cNvSpPr txBox="1"/>
          <p:nvPr/>
        </p:nvSpPr>
        <p:spPr>
          <a:xfrm>
            <a:off x="762120" y="2017800"/>
            <a:ext cx="8192880" cy="4687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rough drug courts, we have an opportunity to build an era of responsibility. On behalf of the DEA, I want to thank all of you who are so committed to this important work. There is no doubt that you make a lasting and significant impact on our society. Everyday you are giving people a second chance at a new future. That is what America is about. We are a nation of second chances.”</a:t>
            </a:r>
            <a:endParaRPr b="0" lang="en-US" sz="2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a Hutchinson, Administrator, Drug Enforcement Administration</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4A5D7B0-DE25-4A12-A33A-0F4908D263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877160" cy="14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br>
              <a:rPr sz="4400"/>
            </a:br>
            <a:r>
              <a:rPr b="0" lang="en-US" sz="4400" spc="-1" strike="noStrike">
                <a:solidFill>
                  <a:srgbClr val="333399"/>
                </a:solidFill>
                <a:latin typeface="Tahoma"/>
              </a:rPr>
              <a:t> - Legislative Support</a:t>
            </a:r>
            <a:endParaRPr b="0" lang="en-US" sz="4400" spc="-1" strike="noStrike">
              <a:solidFill>
                <a:srgbClr val="333399"/>
              </a:solidFill>
              <a:latin typeface="Tahoma"/>
            </a:endParaRPr>
          </a:p>
        </p:txBody>
      </p:sp>
      <p:sp>
        <p:nvSpPr>
          <p:cNvPr id="181" name="PlaceHolder 2"/>
          <p:cNvSpPr>
            <a:spLocks noGrp="1"/>
          </p:cNvSpPr>
          <p:nvPr>
            <p:ph/>
          </p:nvPr>
        </p:nvSpPr>
        <p:spPr>
          <a:xfrm>
            <a:off x="914040" y="2017800"/>
            <a:ext cx="8040600" cy="4611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record 120 Members of  Congress – up from 78 members in 2007 – formally requested $40 million in funding for the DOJ drug court grant program.</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7 U.S. Representatives and 43 U.S. Senators co-signed letters requesting $40 million in fiscal year 2009.</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attachment for press release and list of 120 Members of Congres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BDFD723-1681-4CFF-AE26-E6674CE2E7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045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gislative Support</a:t>
            </a: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08 – Senator J. Biden, on S.Resolution No. 534, urging local, state, and federal officials to help expand and robustly fund drug courts, and designating May 2008 as National Drug Court Mont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re’s no question that drug courts save liv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0109BD0-9536-4347-8CAF-1B8FFC20D6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ator Biden, con’t</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se programs are some of the most cost-effective and proven approaches to breaking the cycle of drug addiction and crime that infect our communities. I hope that during National Drug Court Month we can all celebrate drug courts’ important role in saving lives and communiti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844D885-2FD3-43BE-9230-3A9DFCA099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380880"/>
            <a:ext cx="8181720" cy="99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ator Charles Grassley (R-IA)</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Drug courts present an opportunity for communities to come together and divert offenders to a system that will allow better rehabilitation of drug users. With National Drug Court Month in May, we can highlight programs that help to reduce drug use in our communities by keeping people from repeating their offenses.”</a:t>
            </a:r>
            <a:endParaRPr b="0" lang="en-US" sz="2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ww.jointogether.org/news/yourturn/announcements/2008/may-drug-court-month.htm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A99EACC-EB72-480E-B047-285060831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udicial Support - </a:t>
            </a:r>
            <a:endParaRPr b="0" lang="en-US" sz="4400" spc="-1" strike="noStrike">
              <a:solidFill>
                <a:srgbClr val="000000"/>
              </a:solidFill>
              <a:latin typeface="Tahoma"/>
            </a:endParaRPr>
          </a:p>
        </p:txBody>
      </p:sp>
      <p:sp>
        <p:nvSpPr>
          <p:cNvPr id="4" name="PlaceHolder 3"/>
          <p:cNvSpPr>
            <a:spLocks noGrp="1"/>
          </p:cNvSpPr>
          <p:nvPr>
            <p:ph type="sldNum" idx="3"/>
          </p:nvPr>
        </p:nvSpPr>
        <p:spPr/>
        <p:txBody>
          <a:bodyPr/>
          <a:p>
            <a:fld id="{BCD5D33F-889A-4A96-A89F-E99670D3CE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6160" y="228600"/>
            <a:ext cx="80978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ief Justices of Highest State Courts</a:t>
            </a:r>
            <a:endParaRPr b="0" lang="en-US" sz="4400" spc="-1" strike="noStrike">
              <a:solidFill>
                <a:srgbClr val="333399"/>
              </a:solidFill>
              <a:latin typeface="Tahoma"/>
            </a:endParaRPr>
          </a:p>
        </p:txBody>
      </p:sp>
      <p:sp>
        <p:nvSpPr>
          <p:cNvPr id="191" name="PlaceHolder 2"/>
          <p:cNvSpPr>
            <a:spLocks noGrp="1"/>
          </p:cNvSpPr>
          <p:nvPr>
            <p:ph/>
          </p:nvPr>
        </p:nvSpPr>
        <p:spPr>
          <a:xfrm>
            <a:off x="609480" y="2017800"/>
            <a:ext cx="4383360" cy="423072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ational Conference of Chief Justices passed a resolution supporting Drug Courts…</a:t>
            </a:r>
            <a:endParaRPr b="0" lang="en-US" sz="32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al from Task Force on Therapeutic Justice of the Conference of Chief Justices adopted as proposed at the 52</a:t>
            </a:r>
            <a:r>
              <a:rPr b="0" lang="en-US" sz="2000" spc="-1" strike="noStrike" baseline="30000">
                <a:solidFill>
                  <a:srgbClr val="000000"/>
                </a:solidFill>
                <a:latin typeface="Tahoma"/>
              </a:rPr>
              <a:t>nd</a:t>
            </a:r>
            <a:r>
              <a:rPr b="0" lang="en-US" sz="2000" spc="-1" strike="noStrike">
                <a:solidFill>
                  <a:srgbClr val="000000"/>
                </a:solidFill>
                <a:latin typeface="Tahoma"/>
              </a:rPr>
              <a:t> Annual Meeting, 8/5/00.</a:t>
            </a:r>
            <a:endParaRPr b="0" lang="en-US" sz="2000" spc="-1" strike="noStrike">
              <a:solidFill>
                <a:srgbClr val="000000"/>
              </a:solidFill>
              <a:latin typeface="Tahoma"/>
            </a:endParaRPr>
          </a:p>
        </p:txBody>
      </p:sp>
      <p:pic>
        <p:nvPicPr>
          <p:cNvPr id="192" name="Picture 2" descr="C:\Documents and Settings\User\My Documents\My Pictures\Microsoft Clip Organizer\j0177838.jpg"/>
          <p:cNvPicPr/>
          <p:nvPr/>
        </p:nvPicPr>
        <p:blipFill>
          <a:blip r:embed="rId1"/>
          <a:stretch/>
        </p:blipFill>
        <p:spPr>
          <a:xfrm>
            <a:off x="5221440" y="2855880"/>
            <a:ext cx="3657600" cy="2438280"/>
          </a:xfrm>
          <a:prstGeom prst="rect">
            <a:avLst/>
          </a:prstGeom>
          <a:ln w="0">
            <a:noFill/>
          </a:ln>
        </p:spPr>
      </p:pic>
      <p:sp>
        <p:nvSpPr>
          <p:cNvPr id="4" name="PlaceHolder 3"/>
          <p:cNvSpPr>
            <a:spLocks noGrp="1"/>
          </p:cNvSpPr>
          <p:nvPr>
            <p:ph type="sldNum" idx="3"/>
          </p:nvPr>
        </p:nvSpPr>
        <p:spPr/>
        <p:txBody>
          <a:bodyPr/>
          <a:p>
            <a:fld id="{BFFC3D61-6FA7-4EF4-A61C-A0D8A3CC7C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560"/>
            <a:ext cx="883908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rug Courts Reduce Recidivism</a:t>
            </a:r>
            <a:endParaRPr b="0" lang="en-US" sz="4800" spc="-1" strike="noStrike">
              <a:solidFill>
                <a:srgbClr val="333399"/>
              </a:solidFill>
              <a:latin typeface="Tahoma"/>
            </a:endParaRPr>
          </a:p>
        </p:txBody>
      </p:sp>
      <p:sp>
        <p:nvSpPr>
          <p:cNvPr id="112" name="PlaceHolder 2"/>
          <p:cNvSpPr>
            <a:spLocks noGrp="1"/>
          </p:cNvSpPr>
          <p:nvPr>
            <p:ph type="subTitle"/>
          </p:nvPr>
        </p:nvSpPr>
        <p:spPr>
          <a:xfrm>
            <a:off x="838080" y="3428640"/>
            <a:ext cx="792504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ug Courts reduce crime by an average of 8% to 26%, with most estimates from 9% to 14%. Well-functioning drug courts reduce crime rates by 35% and the effects last at least 3 years.</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1F70C725-57D2-4823-97F1-0CDDA66D50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194"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1999 the Conference of State Court Administrators passed a resolution in support of drug cour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2000 the Conference of State Court Administrators passed a resolution in support of problem solving courts.</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3E55F5C7-8699-44CB-A6E5-3E67FF8225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 Judges</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pproximately 2,775 judges serving as Drug Court judges for programs operating or being planned.</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pproximately 2,500 judges who have previously served as Drug Court judge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erican Univ., BJA Drug Court Clearinghouse, May 23, 2008.</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CE7BF14-C8F2-41A3-80A5-E73A3EAD13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80880"/>
            <a:ext cx="7953120" cy="13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6% of drug court judges are former prosecu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3% of drug court judges are former public defende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ADCP Talking Points/Statistics on Drug Cour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FB1E8F7-4634-44E8-BD8E-D829B6AEBA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o supports Drug Courts?</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merican Bar Associ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ved Standard 2.77, recognizing support for drug courts at the ABA Annual Meeting in Chicago, Ill, 8/7/01</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AC6A701-6150-4C19-A5BC-E658AA32B5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ebruary 2005, the Government Accountability Office (GAO) issued a report confirming that drug courts are an effective tool in reducing substance abuse and related crim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DDFD144-8C7C-4012-82AE-C815B37040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e know that drug courts outperform virtually all other strategies that have been attempted for drug-involved offender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arlow, Dematteo, &amp; Festinger, 2003. From National Drug Court Institute, Office of National Drug Control Policy, BJA. www.ndci.org/courtfacts.htm]</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4C2CBD1-F024-4802-9AF7-C05C4A0C91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a:t>
            </a:r>
            <a:br>
              <a:rPr sz="4400"/>
            </a:br>
            <a:endParaRPr b="0" lang="en-US" sz="4400" spc="-1" strike="noStrike">
              <a:solidFill>
                <a:srgbClr val="333399"/>
              </a:solidFill>
              <a:latin typeface="Tahoma"/>
            </a:endParaRPr>
          </a:p>
        </p:txBody>
      </p:sp>
      <p:sp>
        <p:nvSpPr>
          <p:cNvPr id="206" name="PlaceHolder 2"/>
          <p:cNvSpPr>
            <a:spLocks noGrp="1"/>
          </p:cNvSpPr>
          <p:nvPr>
            <p:ph/>
          </p:nvPr>
        </p:nvSpPr>
        <p:spPr>
          <a:xfrm>
            <a:off x="837720" y="2017800"/>
            <a:ext cx="8116920" cy="4611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For a decade, the research on Drug Courts, spanning more than 100 program evaluations and at least five scientifically rigorous meta-analyses, has yielded definitive proof that Drug Courts significantly reduce crime and substance abuse, and produce greater cost-benefits than any other justice strategy.”</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Urban Institute Report, from NADCP CEO West Huddleston, May 21, 2008].</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D553ADE-DB0F-45F6-9916-D7A1473E6C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361960"/>
            <a:ext cx="784872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Work!</a:t>
            </a:r>
            <a:br>
              <a:rPr sz="4400"/>
            </a:br>
            <a:br>
              <a:rPr sz="4400"/>
            </a:br>
            <a:r>
              <a:rPr b="0" lang="en-US" sz="4400" spc="-1" strike="noStrike">
                <a:solidFill>
                  <a:srgbClr val="333399"/>
                </a:solidFill>
                <a:latin typeface="Tahoma"/>
              </a:rPr>
              <a:t>Thank you.</a:t>
            </a:r>
            <a:endParaRPr b="0" lang="en-US" sz="4400" spc="-1" strike="noStrike">
              <a:solidFill>
                <a:srgbClr val="333399"/>
              </a:solidFill>
              <a:latin typeface="Tahoma"/>
            </a:endParaRPr>
          </a:p>
        </p:txBody>
      </p:sp>
      <p:sp>
        <p:nvSpPr>
          <p:cNvPr id="3" name="PlaceHolder 2"/>
          <p:cNvSpPr>
            <a:spLocks noGrp="1"/>
          </p:cNvSpPr>
          <p:nvPr>
            <p:ph type="sldNum" idx="3"/>
          </p:nvPr>
        </p:nvSpPr>
        <p:spPr/>
        <p:txBody>
          <a:bodyPr/>
          <a:p>
            <a:fld id="{F28C9868-48CC-47E0-902F-026C37D437C7}"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5600" y="0"/>
            <a:ext cx="8258040" cy="130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99"/>
                </a:solidFill>
                <a:latin typeface="Tahoma"/>
              </a:rPr>
              <a:t>Drug Courts Reduce Recidivism</a:t>
            </a:r>
            <a:endParaRPr b="0" lang="en-US" sz="4600" spc="-1" strike="noStrike">
              <a:solidFill>
                <a:srgbClr val="333399"/>
              </a:solidFill>
              <a:latin typeface="Tahoma"/>
            </a:endParaRPr>
          </a:p>
        </p:txBody>
      </p:sp>
      <p:sp>
        <p:nvSpPr>
          <p:cNvPr id="114" name="PlaceHolder 2"/>
          <p:cNvSpPr>
            <a:spLocks noGrp="1"/>
          </p:cNvSpPr>
          <p:nvPr>
            <p:ph/>
          </p:nvPr>
        </p:nvSpPr>
        <p:spPr>
          <a:xfrm>
            <a:off x="1182600" y="2017800"/>
            <a:ext cx="381024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stics based on 5 meta-analyses of drug courts.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a-analysis – scientists statistically average the effects of a program over numerous research studies.</a:t>
            </a:r>
            <a:endParaRPr b="0" lang="en-US" sz="2800" spc="-1" strike="noStrike">
              <a:solidFill>
                <a:srgbClr val="000000"/>
              </a:solidFill>
              <a:latin typeface="Tahoma"/>
            </a:endParaRPr>
          </a:p>
        </p:txBody>
      </p:sp>
      <p:sp>
        <p:nvSpPr>
          <p:cNvPr id="11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eta-analyses of drug courts involve at least 5 experimental studies, dozens of quasi-experimental studies, and dismantling studies. </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6351FF72-5364-4F68-A2AE-017F22195A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480"/>
            <a:ext cx="79246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Recidivism</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6116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ddition to dismantling studies, there have been matching effects studies.</a:t>
            </a:r>
            <a:endParaRPr b="0" lang="en-US" sz="32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w, if any, other criminal justice programs come close to this level of scrutiny.  </a:t>
            </a:r>
            <a:r>
              <a:rPr b="0" lang="en-US" sz="2800" spc="-1" strike="noStrike">
                <a:solidFill>
                  <a:srgbClr val="000000"/>
                </a:solidFill>
                <a:latin typeface="Tahoma"/>
              </a:rPr>
              <a:t>[Painting the Current Picture: A National Report Card on Drug Courts and Other Problem-Solving Court Programs in the United States, BJA, May 2008, Vol. II, No. 1]</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EC4E2C4-54D4-4995-B453-F5638DB894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228600"/>
            <a:ext cx="77929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rug Courts reduce recidivism – other studies</a:t>
            </a:r>
            <a:endParaRPr b="0" lang="en-US" sz="4000" spc="-1" strike="noStrike">
              <a:solidFill>
                <a:srgbClr val="333399"/>
              </a:solidFill>
              <a:latin typeface="Tahoma"/>
            </a:endParaRPr>
          </a:p>
        </p:txBody>
      </p:sp>
      <p:sp>
        <p:nvSpPr>
          <p:cNvPr id="119" name="PlaceHolder 2"/>
          <p:cNvSpPr>
            <a:spLocks noGrp="1"/>
          </p:cNvSpPr>
          <p:nvPr>
            <p:ph/>
          </p:nvPr>
        </p:nvSpPr>
        <p:spPr>
          <a:xfrm>
            <a:off x="837720" y="2017440"/>
            <a:ext cx="8116920" cy="43830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1 Columbia University’s Nat’l Center on Addiction and Substance Abuse: Study based on a review of 37 evaluations (updated 2000 study, 48 other evaluations)– average recidivism rate for those who complete Drug Court is between 4% and 29%, compared to 48% for those who do not participate in a Drug Court program.</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2AAD2EC-F753-4DB8-A3DE-BB79C0549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360"/>
            <a:ext cx="80010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ug Courts reduce recidivism – other studie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 Adult Drug Courts in California – re-arrest rates over a 4 year period were 29% for drug court participants and 17% for drug court graduates, compared to 41% for similar drug offenders who did not participate in drug court. [Carey, Finigan, Crumpton &amp; Waller, 2006]</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9B9B5EC-F8FE-4540-9117-385259A507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ug Courts reduce recidivism – Meta-Analyses</a:t>
            </a:r>
            <a:endParaRPr b="0" lang="en-US" sz="3600" spc="-1" strike="noStrike">
              <a:solidFill>
                <a:srgbClr val="333399"/>
              </a:solidFill>
              <a:latin typeface="Tahoma"/>
            </a:endParaRPr>
          </a:p>
        </p:txBody>
      </p:sp>
      <p:graphicFrame>
        <p:nvGraphicFramePr>
          <p:cNvPr id="123" name=""/>
          <p:cNvGraphicFramePr/>
          <p:nvPr/>
        </p:nvGraphicFramePr>
        <p:xfrm>
          <a:off x="914400" y="1905120"/>
          <a:ext cx="8001000" cy="4760640"/>
        </p:xfrm>
        <a:graphic>
          <a:graphicData uri="http://schemas.openxmlformats.org/drawingml/2006/table">
            <a:tbl>
              <a:tblPr/>
              <a:tblGrid>
                <a:gridCol w="2077920"/>
                <a:gridCol w="2079720"/>
                <a:gridCol w="2075040"/>
                <a:gridCol w="1768320"/>
              </a:tblGrid>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itation</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tion</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Drug Court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ime Reduced on Avg. by…</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lson et al. (2006)</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bell Collaborative</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5</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 to 26%</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imer et al. (2006)</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nada Dept. of Justice</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6</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haffer et al. (2006)</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iv. of Nevada</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6</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enkamp et al. (2005)</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iv. of Cincinnati</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os et al. (2006)</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ashington State Inst. For Public Policy</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7</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65E4723-2C31-41F1-BBFA-9307FA020F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8:23:20Z</dcterms:created>
  <dc:creator>courtuser</dc:creator>
  <dc:description/>
  <dc:language>en-US</dc:language>
  <cp:lastModifiedBy>JFridley</cp:lastModifiedBy>
  <dcterms:modified xsi:type="dcterms:W3CDTF">2008-06-09T13:24:14Z</dcterms:modified>
  <cp:revision>58</cp:revision>
  <dc:subject/>
  <dc:title>Drug Courts – The National         Perspective</dc:title>
</cp:coreProperties>
</file>