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152063" cy="7588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1DC4-03CF-454E-A5E8-25C571A9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8280" y="336600"/>
            <a:ext cx="8120160" cy="9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8280" y="1433160"/>
            <a:ext cx="812016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8280" y="4208760"/>
            <a:ext cx="812016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EE26-9C50-4E33-8BC0-9117ECE8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68280" y="336600"/>
            <a:ext cx="8120160" cy="9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8280" y="1433160"/>
            <a:ext cx="396252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9160" y="1433160"/>
            <a:ext cx="396252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8280" y="4208760"/>
            <a:ext cx="396252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9160" y="4208760"/>
            <a:ext cx="396252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5D8B-9CA8-471D-86D0-B3E49BCF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68280" y="336600"/>
            <a:ext cx="8120160" cy="9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8280" y="1433160"/>
            <a:ext cx="261432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13640" y="1433160"/>
            <a:ext cx="261432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59000" y="1433160"/>
            <a:ext cx="261432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8280" y="4208760"/>
            <a:ext cx="261432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13640" y="4208760"/>
            <a:ext cx="261432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59000" y="4208760"/>
            <a:ext cx="261432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2C2D-E663-4BBE-8179-5E31FBA4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4077-C3A4-4DCD-B70D-2FB9582F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8280" y="336600"/>
            <a:ext cx="8120160" cy="9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68280" y="1433160"/>
            <a:ext cx="8120160" cy="53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C2E5-A71C-4F55-93C8-1F405333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8280" y="336600"/>
            <a:ext cx="8120160" cy="9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8280" y="1433160"/>
            <a:ext cx="8120160" cy="531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19B8-39C4-4C0F-B920-A8429F00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8280" y="336600"/>
            <a:ext cx="8120160" cy="9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8280" y="1433160"/>
            <a:ext cx="3962520" cy="531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9160" y="1433160"/>
            <a:ext cx="3962520" cy="531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427A-9391-40D8-9FFE-BFD09A24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8280" y="336600"/>
            <a:ext cx="8120160" cy="9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989B-12A0-4932-A827-0F9AE905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68280" y="336600"/>
            <a:ext cx="812016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6251-3D59-486F-979C-02E8A137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8280" y="336600"/>
            <a:ext cx="8120160" cy="9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8280" y="1433160"/>
            <a:ext cx="396252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9160" y="1433160"/>
            <a:ext cx="3962520" cy="531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68280" y="4208760"/>
            <a:ext cx="396252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77A4-1356-4EF8-B03D-3B2F7BF8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8280" y="336600"/>
            <a:ext cx="8120160" cy="9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8280" y="1433160"/>
            <a:ext cx="8120160" cy="53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F69-4B7C-4A4F-AC14-5EB46D3E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68280" y="336600"/>
            <a:ext cx="8120160" cy="9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8280" y="1433160"/>
            <a:ext cx="3962520" cy="531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9160" y="1433160"/>
            <a:ext cx="396252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9160" y="4208760"/>
            <a:ext cx="396252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8CFE-3952-4A72-A5DB-ED62270F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8280" y="336600"/>
            <a:ext cx="8120160" cy="9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8280" y="1433160"/>
            <a:ext cx="396252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9160" y="1433160"/>
            <a:ext cx="396252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8280" y="4208760"/>
            <a:ext cx="812016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23F4-26F3-4381-90A6-D4782B4B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68280" y="336600"/>
            <a:ext cx="8120160" cy="9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8280" y="1433160"/>
            <a:ext cx="812016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68280" y="4208760"/>
            <a:ext cx="812016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C71E-E7FC-4763-BB17-15144A6F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8280" y="336600"/>
            <a:ext cx="8120160" cy="9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8280" y="1433160"/>
            <a:ext cx="396252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9160" y="1433160"/>
            <a:ext cx="396252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8280" y="4208760"/>
            <a:ext cx="396252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9160" y="4208760"/>
            <a:ext cx="396252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24F7-A518-4D60-831A-2A6A9887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8280" y="336600"/>
            <a:ext cx="8120160" cy="9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8280" y="1433160"/>
            <a:ext cx="261432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3640" y="1433160"/>
            <a:ext cx="261432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59000" y="1433160"/>
            <a:ext cx="261432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68280" y="4208760"/>
            <a:ext cx="261432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13640" y="4208760"/>
            <a:ext cx="261432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59000" y="4208760"/>
            <a:ext cx="261432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B53C-54A2-4EED-9D48-2993F66A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8280" y="336600"/>
            <a:ext cx="8120160" cy="9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8280" y="1433160"/>
            <a:ext cx="8120160" cy="531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7E30-207D-4BEF-B490-4901534B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8280" y="336600"/>
            <a:ext cx="8120160" cy="9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8280" y="1433160"/>
            <a:ext cx="3962520" cy="531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9160" y="1433160"/>
            <a:ext cx="3962520" cy="531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A461-10FB-40E2-AA91-6C1B0832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8280" y="336600"/>
            <a:ext cx="8120160" cy="9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1F0C-3107-4145-AC63-FE1A6001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68280" y="336600"/>
            <a:ext cx="812016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F1FB-DA2B-4B9A-BEAC-1E8D0984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68280" y="336600"/>
            <a:ext cx="8120160" cy="9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8280" y="1433160"/>
            <a:ext cx="396252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9160" y="1433160"/>
            <a:ext cx="3962520" cy="531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8280" y="4208760"/>
            <a:ext cx="396252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7189-CD6A-468D-B0CF-3B3961F2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68280" y="336600"/>
            <a:ext cx="8120160" cy="9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8280" y="1433160"/>
            <a:ext cx="3962520" cy="531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9160" y="1433160"/>
            <a:ext cx="396252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9160" y="4208760"/>
            <a:ext cx="396252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4490-2587-454C-BD8F-C145EF13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68280" y="336600"/>
            <a:ext cx="8120160" cy="9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8280" y="1433160"/>
            <a:ext cx="396252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9160" y="1433160"/>
            <a:ext cx="396252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8280" y="4208760"/>
            <a:ext cx="8120160" cy="253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CBDA-D2F5-40C8-AE76-B0AAC281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8280" y="336600"/>
            <a:ext cx="8120160" cy="9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8280" y="1433160"/>
            <a:ext cx="8120160" cy="531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3175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684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7336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1320" indent="-254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281320" indent="-254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281320" indent="-254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68280" y="6915240"/>
            <a:ext cx="2114640" cy="50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20960" y="6915240"/>
            <a:ext cx="3214800" cy="50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3800" y="6915240"/>
            <a:ext cx="2114640" cy="50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 algn="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fld id="{98BB85DE-986A-4744-ADEC-01C36986668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010880"/>
            <a:ext cx="8626320" cy="1265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61760" y="6915240"/>
            <a:ext cx="2114280" cy="50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68600" y="6915240"/>
            <a:ext cx="3213360" cy="50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73800" y="6915240"/>
            <a:ext cx="2114640" cy="50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 algn="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fld id="{A2BCF707-BD4A-4E18-881B-8BA2ED80762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507600" y="1775520"/>
            <a:ext cx="913644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 indent="0" algn="ctr">
              <a:spcBef>
                <a:spcPts val="7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4480" algn="ctr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1000" algn="ctr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27160" algn="ctr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2716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2716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Ethics%20Hypotheticals%20Presentation_v2.ppt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010880"/>
            <a:ext cx="8626320" cy="1265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onotype Corsiva"/>
              </a:rPr>
              <a:t>S</a:t>
            </a:r>
            <a:r>
              <a:rPr b="0" lang="en-US" sz="4900" spc="-1" strike="noStrike">
                <a:solidFill>
                  <a:srgbClr val="000000"/>
                </a:solidFill>
                <a:latin typeface="Tahoma"/>
              </a:rPr>
              <a:t>pring </a:t>
            </a:r>
            <a:r>
              <a:rPr b="0" lang="en-US" sz="72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en-US" sz="4900" spc="-1" strike="noStrike">
                <a:solidFill>
                  <a:srgbClr val="000000"/>
                </a:solidFill>
                <a:latin typeface="Tahoma"/>
              </a:rPr>
              <a:t>raining </a:t>
            </a:r>
            <a:r>
              <a:rPr b="0" lang="en-US" sz="7200" spc="-1" strike="noStrike">
                <a:solidFill>
                  <a:srgbClr val="000000"/>
                </a:solidFill>
                <a:latin typeface="Monotype Corsiva"/>
              </a:rPr>
              <a:t>S</a:t>
            </a:r>
            <a:r>
              <a:rPr b="0" lang="en-US" sz="4900" spc="-1" strike="noStrike">
                <a:solidFill>
                  <a:srgbClr val="000000"/>
                </a:solidFill>
                <a:latin typeface="Tahoma"/>
              </a:rPr>
              <a:t>ession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440" y="1814040"/>
            <a:ext cx="7105680" cy="19400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8000" spc="-1" strike="noStrike">
                <a:solidFill>
                  <a:srgbClr val="663300"/>
                </a:solidFill>
                <a:latin typeface="Monotype Corsiva"/>
              </a:rPr>
              <a:t>2</a:t>
            </a:r>
            <a:r>
              <a:rPr b="0" lang="en-US" sz="3600" spc="-1" strike="noStrike">
                <a:solidFill>
                  <a:srgbClr val="663300"/>
                </a:solidFill>
                <a:latin typeface="Monotype Corsiva"/>
              </a:rPr>
              <a:t> </a:t>
            </a:r>
            <a:r>
              <a:rPr b="0" lang="en-US" sz="8000" spc="-1" strike="noStrike" baseline="20000">
                <a:solidFill>
                  <a:srgbClr val="663300"/>
                </a:solidFill>
                <a:latin typeface="Monotype Corsiva"/>
              </a:rPr>
              <a:t>00</a:t>
            </a:r>
            <a:r>
              <a:rPr b="0" lang="en-US" sz="8000" spc="-1" strike="noStrike">
                <a:solidFill>
                  <a:srgbClr val="663300"/>
                </a:solidFill>
                <a:latin typeface="Monotype Corsiva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846680" y="2638440"/>
            <a:ext cx="509400" cy="1440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4000" y="1052640"/>
            <a:ext cx="10150560" cy="5599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03880" y="3719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harlottesvi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84760" y="20430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inche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61080" y="4100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ichm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52000" y="56386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irginia Be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42160" y="48769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amp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66000" y="43434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hester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46880" y="24382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air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32680" y="32767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edericksbu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970760" y="379584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ars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94600" y="52578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armvi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94400" y="57913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anvi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70360" y="471024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ynchbu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70360" y="30481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arrisonbu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89680" y="27432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shb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84560" y="41911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oano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98760" y="5105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adf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55760" y="57150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bingd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41360" y="516744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ig Stone 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199360" y="53197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ortsmo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37800" y="43290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lf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99160" y="46483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eysvi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32480" y="38862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en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09000" y="18907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rling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80600" y="59436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hesape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366840"/>
            <a:ext cx="5486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6633"/>
                </a:solidFill>
                <a:uFillTx/>
                <a:latin typeface="Monotype Corsiva"/>
              </a:rPr>
              <a:t>43</a:t>
            </a:r>
            <a:r>
              <a:rPr b="0" lang="en-US" sz="3600" spc="-1" strike="noStrike">
                <a:solidFill>
                  <a:srgbClr val="996633"/>
                </a:solidFill>
                <a:latin typeface="Monotype Corsiva"/>
              </a:rPr>
              <a:t>  Seminars  in </a:t>
            </a:r>
            <a:r>
              <a:rPr b="0" lang="en-US" sz="4000" spc="-1" strike="noStrike" u="sng">
                <a:solidFill>
                  <a:srgbClr val="996633"/>
                </a:solidFill>
                <a:uFillTx/>
                <a:latin typeface="Monotype Corsiva"/>
              </a:rPr>
              <a:t>25</a:t>
            </a:r>
            <a:r>
              <a:rPr b="0" lang="en-US" sz="3600" spc="-1" strike="noStrike">
                <a:solidFill>
                  <a:srgbClr val="996633"/>
                </a:solidFill>
                <a:latin typeface="Monotype Corsiva"/>
              </a:rPr>
              <a:t> Lo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9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9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10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68280" y="336600"/>
            <a:ext cx="8120160" cy="9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Monotype Corsiva"/>
              </a:rPr>
              <a:t>F</a:t>
            </a:r>
            <a:r>
              <a:rPr b="0" lang="en-US" sz="4500" spc="-1" strike="noStrike">
                <a:solidFill>
                  <a:srgbClr val="000000"/>
                </a:solidFill>
                <a:latin typeface="Tahoma"/>
              </a:rPr>
              <a:t>uture </a:t>
            </a:r>
            <a:r>
              <a:rPr b="0" lang="en-US" sz="8000" spc="-1" strike="noStrike">
                <a:solidFill>
                  <a:srgbClr val="000000"/>
                </a:solidFill>
                <a:latin typeface="Monotype Corsiva"/>
              </a:rPr>
              <a:t>S</a:t>
            </a:r>
            <a:r>
              <a:rPr b="0" lang="en-US" sz="4500" spc="-1" strike="noStrike">
                <a:solidFill>
                  <a:srgbClr val="000000"/>
                </a:solidFill>
                <a:latin typeface="Tahoma"/>
              </a:rPr>
              <a:t>eminar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8280" y="1433160"/>
            <a:ext cx="8120160" cy="531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hat’s New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317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mp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317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rs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317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d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317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g Stone 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317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ng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317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ano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317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n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317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hb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317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rf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317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ling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ntroduction to Sentencing Guideli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317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smou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317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rf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317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ythevi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317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n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32480" y="5319720"/>
            <a:ext cx="4618080" cy="2278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4" name=""/>
          <p:cNvSpPr/>
          <p:nvPr/>
        </p:nvSpPr>
        <p:spPr>
          <a:xfrm>
            <a:off x="1909800" y="1128600"/>
            <a:ext cx="133668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84560" y="1128600"/>
            <a:ext cx="17528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8280" y="336600"/>
            <a:ext cx="8120160" cy="9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4500" spc="-1" strike="noStrike">
                <a:solidFill>
                  <a:srgbClr val="000000"/>
                </a:solidFill>
                <a:latin typeface="Tahoma"/>
              </a:rPr>
              <a:t>ttendanc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8280" y="1433160"/>
            <a:ext cx="8120160" cy="531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lnSpc>
                <a:spcPct val="100000"/>
              </a:lnSpc>
              <a:spcBef>
                <a:spcPts val="876"/>
              </a:spcBef>
              <a:spcAft>
                <a:spcPts val="4374"/>
              </a:spcAft>
              <a:buClr>
                <a:srgbClr val="000000"/>
              </a:buClr>
              <a:buFont typeface="Tahoma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ahoma"/>
              </a:rPr>
              <a:t>1162</a:t>
            </a: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 Participants (To Date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317520">
              <a:lnSpc>
                <a:spcPct val="100000"/>
              </a:lnSpc>
              <a:spcBef>
                <a:spcPts val="774"/>
              </a:spcBef>
              <a:spcAft>
                <a:spcPts val="3875"/>
              </a:spcAft>
              <a:buClr>
                <a:srgbClr val="000000"/>
              </a:buClr>
              <a:buFont typeface="Tahom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ahoma"/>
              </a:rPr>
              <a:t>664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 Probation Officer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317520">
              <a:lnSpc>
                <a:spcPct val="100000"/>
              </a:lnSpc>
              <a:spcBef>
                <a:spcPts val="774"/>
              </a:spcBef>
              <a:spcAft>
                <a:spcPts val="1939"/>
              </a:spcAft>
              <a:buClr>
                <a:srgbClr val="000000"/>
              </a:buClr>
              <a:buFont typeface="Tahom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ahoma"/>
              </a:rPr>
              <a:t>498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 Attorney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6840" indent="-252360">
              <a:lnSpc>
                <a:spcPct val="100000"/>
              </a:lnSpc>
              <a:spcBef>
                <a:spcPts val="675"/>
              </a:spcBef>
              <a:spcAft>
                <a:spcPts val="836"/>
              </a:spcAft>
              <a:buClr>
                <a:srgbClr val="000000"/>
              </a:buClr>
              <a:buFont typeface="Tahoma"/>
              <a:buChar char="•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202 Commonwealth’s Attorney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6840" indent="-252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ahoma"/>
              <a:buChar char="•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296 Defense Attorne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773360" indent="-252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–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132 Public Defender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68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523200" y="2057400"/>
            <a:ext cx="3627360" cy="15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858000" y="5348160"/>
            <a:ext cx="3322800" cy="225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7620120" y="-15840"/>
            <a:ext cx="3093840" cy="225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7601040" y="3635280"/>
            <a:ext cx="2655720" cy="183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1833480" y="1128600"/>
            <a:ext cx="255600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8280" y="336600"/>
            <a:ext cx="8120160" cy="9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Monotype Corsiva"/>
              </a:rPr>
              <a:t>E</a:t>
            </a:r>
            <a:r>
              <a:rPr b="0" lang="en-US" sz="4500" spc="-1" strike="noStrike">
                <a:solidFill>
                  <a:srgbClr val="000000"/>
                </a:solidFill>
                <a:latin typeface="Tahoma"/>
              </a:rPr>
              <a:t>thics </a:t>
            </a:r>
            <a:r>
              <a:rPr b="0" lang="en-US" sz="8000" spc="-1" strike="noStrike">
                <a:solidFill>
                  <a:srgbClr val="000000"/>
                </a:solidFill>
                <a:latin typeface="Monotype Corsiva"/>
              </a:rPr>
              <a:t>S</a:t>
            </a:r>
            <a:r>
              <a:rPr b="0" lang="en-US" sz="4500" spc="-1" strike="noStrike">
                <a:solidFill>
                  <a:srgbClr val="000000"/>
                </a:solidFill>
                <a:latin typeface="Tahoma"/>
              </a:rPr>
              <a:t>eminar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8280" y="1433160"/>
            <a:ext cx="8120160" cy="531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eloped over the Past Ye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317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dge Robert J. Humphr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6840" indent="-252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ce Chairman, VC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317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lie A.T. Haley, Es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6840" indent="-252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stant Ethics Counsel, Virginia State 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317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 Cu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6840" indent="-252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udicial Inquiry &amp; Review Com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6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rst Presentation on Frida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9800" y="1128600"/>
            <a:ext cx="133668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80000" y="1128600"/>
            <a:ext cx="175248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70760" y="5548320"/>
            <a:ext cx="2179800" cy="2041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2"/>
          </p:cNvPr>
          <p:cNvSpPr/>
          <p:nvPr/>
        </p:nvSpPr>
        <p:spPr>
          <a:xfrm>
            <a:off x="1722600" y="5319720"/>
            <a:ext cx="990360" cy="914400"/>
          </a:xfrm>
          <a:prstGeom prst="ellipse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9T10:54:29Z</dcterms:created>
  <dc:creator>Jody Fridley</dc:creator>
  <dc:description/>
  <dc:language>en-US</dc:language>
  <cp:lastModifiedBy>JFridley</cp:lastModifiedBy>
  <dcterms:modified xsi:type="dcterms:W3CDTF">2007-06-11T12:13:42Z</dcterms:modified>
  <cp:revision>21</cp:revision>
  <dc:subject/>
  <dc:title>Training Program</dc:title>
</cp:coreProperties>
</file>